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33.xml" ContentType="application/vnd.openxmlformats-officedocument.theme+xml"/>
  <Override PartName="/ppt/theme/theme45.xml" ContentType="application/vnd.openxmlformats-officedocument.theme+xml"/>
  <Override PartName="/ppt/theme/theme10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41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</p:sldMasterIdLst>
  <p:notesMasterIdLst>
    <p:notesMasterId r:id="rId46"/>
  </p:notesMasterIdLst>
  <p:sldIdLst>
    <p:sldId id="256" r:id="rId47"/>
    <p:sldId id="257" r:id="rId48"/>
    <p:sldId id="258" r:id="rId49"/>
    <p:sldId id="259" r:id="rId50"/>
    <p:sldId id="260" r:id="rId51"/>
    <p:sldId id="261" r:id="rId52"/>
    <p:sldId id="262" r:id="rId53"/>
    <p:sldId id="263" r:id="rId54"/>
    <p:sldId id="264" r:id="rId55"/>
    <p:sldId id="265" r:id="rId56"/>
    <p:sldId id="266" r:id="rId57"/>
    <p:sldId id="267" r:id="rId58"/>
    <p:sldId id="268" r:id="rId59"/>
    <p:sldId id="269" r:id="rId60"/>
    <p:sldId id="270" r:id="rId61"/>
    <p:sldId id="271" r:id="rId62"/>
    <p:sldId id="272" r:id="rId63"/>
    <p:sldId id="273" r:id="rId64"/>
    <p:sldId id="274" r:id="rId65"/>
    <p:sldId id="275" r:id="rId66"/>
    <p:sldId id="276" r:id="rId67"/>
    <p:sldId id="277" r:id="rId68"/>
    <p:sldId id="278" r:id="rId69"/>
    <p:sldId id="279" r:id="rId70"/>
    <p:sldId id="280" r:id="rId71"/>
    <p:sldId id="281" r:id="rId72"/>
    <p:sldId id="282" r:id="rId73"/>
    <p:sldId id="283" r:id="rId74"/>
    <p:sldId id="284" r:id="rId75"/>
    <p:sldId id="285" r:id="rId76"/>
  </p:sldIdLst>
  <p:sldSz cx="6858000" cy="9144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notesMaster" Target="notesMasters/notesMaster1.xml"/><Relationship Id="rId47" Type="http://schemas.openxmlformats.org/officeDocument/2006/relationships/slide" Target="slides/slide1.xml"/><Relationship Id="rId48" Type="http://schemas.openxmlformats.org/officeDocument/2006/relationships/slide" Target="slides/slide2.xml"/><Relationship Id="rId49" Type="http://schemas.openxmlformats.org/officeDocument/2006/relationships/slide" Target="slides/slide3.xml"/><Relationship Id="rId50" Type="http://schemas.openxmlformats.org/officeDocument/2006/relationships/slide" Target="slides/slide4.xml"/><Relationship Id="rId51" Type="http://schemas.openxmlformats.org/officeDocument/2006/relationships/slide" Target="slides/slide5.xml"/><Relationship Id="rId52" Type="http://schemas.openxmlformats.org/officeDocument/2006/relationships/slide" Target="slides/slide6.xml"/><Relationship Id="rId53" Type="http://schemas.openxmlformats.org/officeDocument/2006/relationships/slide" Target="slides/slide7.xml"/><Relationship Id="rId54" Type="http://schemas.openxmlformats.org/officeDocument/2006/relationships/slide" Target="slides/slide8.xml"/><Relationship Id="rId55" Type="http://schemas.openxmlformats.org/officeDocument/2006/relationships/slide" Target="slides/slide9.xml"/><Relationship Id="rId56" Type="http://schemas.openxmlformats.org/officeDocument/2006/relationships/slide" Target="slides/slide10.xml"/><Relationship Id="rId57" Type="http://schemas.openxmlformats.org/officeDocument/2006/relationships/slide" Target="slides/slide11.xml"/><Relationship Id="rId58" Type="http://schemas.openxmlformats.org/officeDocument/2006/relationships/slide" Target="slides/slide12.xml"/><Relationship Id="rId59" Type="http://schemas.openxmlformats.org/officeDocument/2006/relationships/slide" Target="slides/slide13.xml"/><Relationship Id="rId60" Type="http://schemas.openxmlformats.org/officeDocument/2006/relationships/slide" Target="slides/slide14.xml"/><Relationship Id="rId61" Type="http://schemas.openxmlformats.org/officeDocument/2006/relationships/slide" Target="slides/slide15.xml"/><Relationship Id="rId62" Type="http://schemas.openxmlformats.org/officeDocument/2006/relationships/slide" Target="slides/slide16.xml"/><Relationship Id="rId63" Type="http://schemas.openxmlformats.org/officeDocument/2006/relationships/slide" Target="slides/slide17.xml"/><Relationship Id="rId64" Type="http://schemas.openxmlformats.org/officeDocument/2006/relationships/slide" Target="slides/slide18.xml"/><Relationship Id="rId65" Type="http://schemas.openxmlformats.org/officeDocument/2006/relationships/slide" Target="slides/slide19.xml"/><Relationship Id="rId66" Type="http://schemas.openxmlformats.org/officeDocument/2006/relationships/slide" Target="slides/slide20.xml"/><Relationship Id="rId67" Type="http://schemas.openxmlformats.org/officeDocument/2006/relationships/slide" Target="slides/slide21.xml"/><Relationship Id="rId68" Type="http://schemas.openxmlformats.org/officeDocument/2006/relationships/slide" Target="slides/slide22.xml"/><Relationship Id="rId69" Type="http://schemas.openxmlformats.org/officeDocument/2006/relationships/slide" Target="slides/slide23.xml"/><Relationship Id="rId70" Type="http://schemas.openxmlformats.org/officeDocument/2006/relationships/slide" Target="slides/slide24.xml"/><Relationship Id="rId71" Type="http://schemas.openxmlformats.org/officeDocument/2006/relationships/slide" Target="slides/slide25.xml"/><Relationship Id="rId72" Type="http://schemas.openxmlformats.org/officeDocument/2006/relationships/slide" Target="slides/slide26.xml"/><Relationship Id="rId73" Type="http://schemas.openxmlformats.org/officeDocument/2006/relationships/slide" Target="slides/slide27.xml"/><Relationship Id="rId74" Type="http://schemas.openxmlformats.org/officeDocument/2006/relationships/slide" Target="slides/slide28.xml"/><Relationship Id="rId75" Type="http://schemas.openxmlformats.org/officeDocument/2006/relationships/slide" Target="slides/slide29.xml"/><Relationship Id="rId76" Type="http://schemas.openxmlformats.org/officeDocument/2006/relationships/slide" Target="slides/slide30.xml"/><Relationship Id="rId7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0" y="70560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800" bIns="-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699840" y="4410000"/>
            <a:ext cx="5598360" cy="41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BD24F-3AF2-4E32-BB2F-EAD0909464FF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2" name="PlaceHolder 1"/>
          <p:cNvSpPr>
            <a:spLocks noGrp="1"/>
          </p:cNvSpPr>
          <p:nvPr>
            <p:ph type="sldImg"/>
          </p:nvPr>
        </p:nvSpPr>
        <p:spPr>
          <a:xfrm>
            <a:off x="2195640" y="696960"/>
            <a:ext cx="2609640" cy="3481200"/>
          </a:xfrm>
          <a:prstGeom prst="rect">
            <a:avLst/>
          </a:prstGeom>
          <a:ln w="0">
            <a:noFill/>
          </a:ln>
        </p:spPr>
      </p:sp>
      <p:sp>
        <p:nvSpPr>
          <p:cNvPr id="2123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4" name="Rectangle 7"/>
          <p:cNvSpPr/>
          <p:nvPr/>
        </p:nvSpPr>
        <p:spPr>
          <a:xfrm>
            <a:off x="3963960" y="881856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A053-9EF5-4676-B213-AFE85B68A0FB}" type="slidenum">
              <a:rPr b="0" lang="en-US" sz="2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25" name="PlaceHolder 1"/>
          <p:cNvSpPr>
            <a:spLocks noGrp="1"/>
          </p:cNvSpPr>
          <p:nvPr>
            <p:ph type="sldImg"/>
          </p:nvPr>
        </p:nvSpPr>
        <p:spPr>
          <a:xfrm>
            <a:off x="2195640" y="696960"/>
            <a:ext cx="2609640" cy="3481200"/>
          </a:xfrm>
          <a:prstGeom prst="rect">
            <a:avLst/>
          </a:prstGeom>
          <a:ln w="0">
            <a:noFill/>
          </a:ln>
        </p:spPr>
      </p:sp>
      <p:sp>
        <p:nvSpPr>
          <p:cNvPr id="2126" name="PlaceHolder 2"/>
          <p:cNvSpPr>
            <a:spLocks noGrp="1"/>
          </p:cNvSpPr>
          <p:nvPr>
            <p:ph type="body"/>
          </p:nvPr>
        </p:nvSpPr>
        <p:spPr>
          <a:xfrm>
            <a:off x="700200" y="4410000"/>
            <a:ext cx="559728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9E61B-0AE6-4DE1-A5B7-ACBAB3E2E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01F71-FDE3-4B6D-99CB-BA8B88F56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51FCBD-D5AF-4F53-B109-92ECCC6DA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095B26-1955-4088-BC6C-A5CF17248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5C60F8-CE46-49B2-BAA9-EF50AC8A1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D75499-6D36-4B87-B2AC-824718326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78EC6-BACC-49D3-A12E-486F04535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00000-D77F-4291-91D0-C4DB5D0DD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375341-BF57-4F09-979E-B3B1F3F9A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AED5C-8007-4E64-AAD9-075DC8E51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131B7F-AA69-4668-BD8A-46430EC2D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4B6ADE-CC0B-477F-90EE-3862754D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21D1-C64E-4E89-BA84-0A7A0F0C6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648A51-DB89-430D-A238-EFC5FD796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ED5D98-C298-4B4F-B80E-19E91C696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517AF7-0948-41F3-A21E-3961BA15C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7DE316-CC3F-4776-A71A-8F6794D7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D37579-A147-4B51-BCC5-6DE379C87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88469-7FBE-4EFD-BBAF-9B28C8116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6CC8D-B218-4702-A04C-CD9AE27E7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989A6-9EC0-42E3-8CE3-D1E79D77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A88BD5-945C-4E16-9726-28680E54E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9D3303-939E-4F94-A17E-627BB97C2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623-013D-4FC1-8E7A-D8587DA7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B2B0A2-0054-45B4-8112-00262775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D70582D-1B25-4174-B6A1-BB28C5C0A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819824-E053-404C-B2D3-BF7198D3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3FDCFF-F9A6-406B-8F0C-759FBC5E1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CDEB35-7CFB-47E7-9FA9-50CCAA6E4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D7B70-C496-4DF5-A3FE-1980BE0D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E249A4-6850-44C6-BBCA-AEC285B6D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05B4BF-6086-4A8D-8805-66E3E1624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165D47-AD8B-4259-9D3D-750D50474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D21C53-91BA-4BDE-955E-AB37294B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3736-5E0A-4C87-A037-D8E682AAA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415797-517D-4167-84C9-2B06E10EE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42FCE0-6517-4BF1-8B62-0204FC5C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3842EF-D87A-4A71-A51D-30CE8DD7A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02B011-6079-4167-A6B2-C404E946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738243-CC4F-4F87-9D11-360963605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4F6F15-9165-4549-A663-C858DD69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BC379F-4D3B-4E53-A1EC-F6368D79B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31B79-B2F5-4154-8BBB-8E1542B0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4674FF-C391-4875-847E-173412032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ED8176-3FF9-421F-9D01-1A6592705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F4A6-C519-4577-B219-D8E82210B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CBE4A-DFB7-486F-B9C3-F3136DFF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451AE0-AB53-402B-B711-AE6A50CA9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38390C-B1CD-4412-AA98-0BF96DCD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8605AD-EA89-4561-8A89-AD7C97B0E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3981A95-66FF-48A7-9FB8-3413B2983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DA6F8-E289-4431-94D0-10D3FB98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6B5EF3-B266-4B6B-B041-FFB40A4A2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E43D8-6F77-4612-86BE-685D101F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FF535D-019C-4A75-94DD-6E3B31A45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658684-14AF-4309-B54F-868811837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A6E5D-F5C7-4A22-A81A-6852AC2E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BDA94D-5892-46A3-B79E-3C701B894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17370D-39AD-4E9B-9D37-91CFE2639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5E07AD-B848-4013-B704-B5E9B2BD1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7ADB48-FDF0-4857-84DE-B6E08D9A4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7CFB8F-C4B6-4D94-80D7-D261F1B1F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34C3E-F15B-4A21-8302-E56999FAA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50EDBF-321E-4CE3-BB95-B8F706EED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669B24-3BA6-4C28-B4D2-41B8B36BE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1B1A99-7467-47DE-876A-A80077385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40E80A-B4BF-4D65-AD1C-68E814FF0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900EA-15B1-463F-9EEE-6999E953D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9B142B-2B0B-4431-B086-C90175E6F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1B49DB-F4A3-4D95-9EF9-6D4B5EDD4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E1647E-B60F-484E-B0E2-7F5CF5DC2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82C137-A394-4036-808D-2FB2CDBA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DBFCC5-AD8C-4E61-98F4-BCDBDC655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E066AB-06EE-4E82-9EB1-EAF47837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6449AE-E301-441F-ACA1-FD327B9D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DFAFB9-0BEE-47B1-B67B-90A12DD42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85B840-ED9B-4AA7-99F7-1DF58311D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9AAA86-9EC1-4695-9FFE-0D2B6640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212FF-0B9A-45F8-ABCF-AC051214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ABA3BE-C9E8-4493-B332-BF466A12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011B05-0837-4346-975E-AAF96C62A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1C40AB-1186-47E1-B590-9BC5FA674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6F2F75-8B98-421B-BF43-872584F30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8FF2B8-9849-480F-ADE9-B55C4BE69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598307-D052-4A8B-ACC6-FEEE4363F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951C2F-E769-4520-8C62-2B7EAE389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F323CFF-CBA6-49AD-9913-E10B7F79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7507AC-9A73-4B6F-8FE2-E383CCD08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D225F5-2CE2-4C43-9C89-8D4C35B76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E99F-C257-4196-9C2D-6DDFCF774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CF249B-04BF-454E-84A4-C577A2E25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AEA38F-A5F9-4F4A-9163-6B12EA9BE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A42AA3-D599-43D1-BA71-CC75EB39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E59523-DE63-42A0-BC78-52BA1BA47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E095A5-6281-41DC-AD2A-38AF91E69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0821A3-F393-423E-8542-2A26B86EF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0356379-457F-47E2-A579-AEDB72D6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22F3CF-5066-49B9-9C79-F520AAA8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4A5D1A-EE0F-48CF-8903-C6CF4EE6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2BBA23-D2FD-4671-8325-0FE91EE26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E088F-DBE4-4404-BA27-7AD98468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B931D2-5501-4FEF-91D8-1C09AC46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3A5E83-36F9-42D0-A983-DF7FD128C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E3CA2A-76D8-42DA-BA72-46FCBD1E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BDF34C-CEBF-4909-82A9-43EAEC217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35F99-B261-46FC-BBDB-F327FB6D9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6D7988-9AD4-40E5-981B-6CAEFA30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4EB7E-956F-43D2-8650-344D49FA1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BE0663-1799-44F4-BC33-C38C77870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4CD3917-6AD0-4E8F-A28C-587D8D78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776B10-8ECA-4543-84B7-7BB4CF740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A5AC-0151-4DE2-82A8-BD5F918C4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F1EAB-C968-47A4-A5CD-972F8586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91D7C6-4E2A-4E6C-ABAB-EFF225D1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43C490-BCEB-41BA-9AE1-41AC36E61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8C36DD5-9D8C-450C-B6CE-6269F569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CCB713-EB39-4D40-AEAD-CACE0CBD4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063B7C-3B6B-4B9F-9365-985B4E38F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2A7073-73F6-4700-8FAD-EA24A15E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6D8295-6A8C-4BFC-8B66-8181934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081C30-C2B2-4EFB-B216-7085A2AE9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2B7CE0-D01C-4823-8A80-9AC10A59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70BDEDD-B349-4E73-9DAE-7F75485C8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3D483-ABD1-48D7-87CA-A5741701F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DDAF9F-F83B-47C0-B53D-52CA29421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69F808A-D54B-42FC-87B4-E68D84B9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99392E3-B7A5-4899-8563-B6785872A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17AF70-0D71-4C00-AE1F-84EAE5B72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824C6E-A1E3-4838-AB8E-E9F3CAAE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6B7175-24FF-4B26-AAD2-CF45DAED5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A4ED83-0DC6-4688-A20B-F3A2A952B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9D352-E2A4-4B4F-B9F0-47249A5A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9DA64F-B5CA-4855-898B-86BFFA3D0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14C052-0FDF-4DEF-8253-AC8FC3401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111BC-F558-4D04-94B3-7C7AF7499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9293B2-8C89-4950-A59E-040877CB5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D3BCB-A743-44F9-B511-6010800DA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2138B-E78D-4015-8FBE-0251328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353952-1F7F-4A93-AEA8-7411A1511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232E3E-CD59-448B-A60A-E1287F647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E255092-15E8-4DBF-8F00-F795799E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6794837-7554-4DA1-88CD-6BF8B0298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6ED020-C9BC-4289-99CE-01FA04ED94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19E3B-0960-4085-9520-BB8E7CBF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654559-49A8-43F3-853B-1C98CDE6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E532A2-2DED-4427-A1BA-70528084E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34DD2F-AF26-46F6-B07A-D78A71B09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3592CC-52D8-4ACA-9F3E-14C5D8534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9D509F-7FC3-4F21-995A-14065EE9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639FAB-D1C8-45CD-8FD7-A99241882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A7269D-431A-49C3-9353-2BDCDDFA2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8E04DD-6F9E-4B17-9127-6BDD1AB2D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1446C5-F87C-4C12-92C0-DA5E561F8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369B379-0A14-45AE-8353-25BEF3AC8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6F7B974-A511-4B6C-AB3C-F8C704A37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54A93F-9D9F-4726-AF9E-C2CC02D3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8791-50EA-49AF-861B-04733DD2A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EBA4DDB-67F8-4221-B14D-74E445176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D37C13-8B3B-4961-BDE2-60A754944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5A8C9D2-BF5B-47CA-86DD-4C5BFA5C3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DB5D85-AA2A-42F0-90DC-45956A88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C2539D-478F-4D0D-B52C-2EC116860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0B5EBE1-11E2-41FA-8A01-3767723E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412A0D-40FA-4F37-97FB-320D620F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CC42EB-5EFF-4F37-9DB9-36FD4B60A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29528E-E5DE-4992-9703-CD78749FC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F296FA-9326-4F4A-A909-D0D84E0BC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F0EFC3-864A-47CA-999A-29FFD0BE7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970D2C-D301-4E5D-B0D6-B1F7EB4A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3854E2-FD3F-43CF-B2E0-1E11684F0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A102D8A-FE40-4D6D-A7BE-E0983DD3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1AB83F7-6B61-4154-884E-0A04E5C5A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A2B1D68-44C9-4C1F-8DBC-AB95C81A8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753E1A-1CCD-4795-B47D-B23B51EA8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32681AF-1C89-4688-8B79-5ED30B1EB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2A292D-E528-4DEF-8579-80E50078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86D341A-59AD-4E82-BB10-100A2423F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F79B112-D1E4-4B56-9EA4-442020B77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7B4D5-3C27-4522-94D8-999015BE1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B501AF-4B0C-44C2-9C36-5DE7275B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FCD670-73B1-4FCE-ADED-2A2B79DF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F6F4168-F41E-457A-8FDD-3CBEE0072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1E61D4-E8E1-4375-B032-5DAAF9D32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A35242-991A-4884-9A65-FBDA39390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BB161C7-2846-4020-B642-7824C5E4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13B80A-9421-49B2-8384-67120C726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45202BC-FBD1-48AA-AEEA-BCAABDAB8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AF654C-C13E-4DCB-9F09-0410F049D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5B344F3-9657-44C9-A41C-F749AE28D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C3C60-BE22-4399-B15F-DEAED5AE4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B42B3-DFC2-4CBA-845B-2AED45C5A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DFBD84-76A6-4232-93AF-4257428D6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787AA8-580E-4179-A411-A867D6ED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8ED04A7-4E7D-45B4-B49D-21F56079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98CD601-E06A-4EA8-B9F7-FBA691C69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7C5EB9-85CB-40FA-B201-F810A44AF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C838129-0ACB-486F-9C2F-612171A08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197175E-3A56-4F79-B731-79E9A35CC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480FEE-E8F2-4F57-927C-4F43EB81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A53E8EC-B640-47DD-8337-E0EEC87E3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B3E50C-12D2-418F-BB86-69BEA6448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7CD8CB-E858-4539-8DC4-8B8A457F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9E9ECC-9126-48C2-8006-8B45BE19D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7128790-53CD-460C-9A23-B96D3E578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D918AD4-51E8-4774-BD31-B0200723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4D892E-4766-4791-97FF-8BA66ECAA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3AB8E4A-6DCF-46F9-9FF6-488D9D2D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ABBDCDF-8A39-4299-AA7F-1FC1A9C0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B259BCD-C74D-48B6-9707-13930E88F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9A9C403-4F5B-47D6-B229-BE96B4258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328AE68-0082-41D3-A6FD-8125C39EA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7DB04C-DC64-4A8E-BA49-763E362B5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D6FFFAC-09D5-4288-80C0-9AC53690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E58A434-6AB3-4B5D-AA1A-632C1DEB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34AB46-40A5-40A7-9B51-01A4D2359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7DFC87-3A5A-4AD2-AECC-B9361B55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2B48CA-1212-4B41-AF43-2F086832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FF8D477-6F48-4251-A4EA-2349A70A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03A694-A625-4F5E-A3F5-D61587DCA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84D95A-7361-44A2-A837-7ED961A9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334784-E2CA-4795-8905-F8C618A62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27091B9-6F46-428C-9230-62E09BD8E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24BCC-1000-4330-9A87-2AEBC715F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E05DAB-54DB-48EC-B662-4E10918D7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1E27E99-9E71-4404-B617-8FA1D3DD9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6D57CAC-91E7-420C-88E7-3511D8C92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B43F122-2F7E-47FA-A88A-D1F48BFEA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6227132-F87D-43EC-BC3D-0186F3DD2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A80FBF-1733-4FE7-BAE8-8659964CA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E6E71D-23E7-4712-87F3-907762F2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FAECFC-C5FE-45C8-B551-993C7C4DF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8F18420-8157-4666-AEFB-F1686118F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8891D0B-C25F-4E27-BAB5-3BB49EE8B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52C750-D648-4519-B9F9-3FCF7B3E6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87933B-384A-4BAC-8B24-54397555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AC2E86F-7593-4ADE-8C1B-DAA2B4F4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07F28F5-D93F-4F26-A2B3-DB983E79F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96E3FF0-42F2-4D21-918C-0300BAC03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8813CF6-FF0E-4EC3-924A-DE98C9FB8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B6E1372-3CED-4199-8FD9-6A82FB7B0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447615-E90F-4F35-A8AD-74F011B8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AB4866F-8559-483E-AD32-916FADF27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429E6E-EECD-46EA-8869-28E2AFF0E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3A1D8C6-73CE-43AE-AE70-31C76B63E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B70BAEE-3B6A-4AA5-BD52-3A7CC5BB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E653D4-5E4C-409C-BCD9-2850291A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70D43E-6D6A-451A-AA04-43816C41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3B3FD4-852B-4AFA-ACFA-CF479F36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CD3AB4-1EBC-4F71-BE46-1C20747C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6A85CA-7DF7-49DD-92DD-1427F8DB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672284-5E65-4E5D-AFF8-03D8F3AE5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947496-4CD5-403F-BFE2-A9B00B97E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172A867-0EDD-48E8-978F-B7DC6E91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C28E25-8D44-42E9-B002-8CBFDD38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4582AE-4B48-40F6-979D-9A7256810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644AE6E-16B2-4764-9BF5-F3937E668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DBCC14-8C76-40EF-B658-1ECD3AE88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6BAF1E-8C89-4487-9B63-AC6FEF8231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AF6DE3-18B8-4B1B-9F50-BB76C626C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3816A09-B7CC-4EBB-9D86-290982082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C736C3-E6FF-46A2-AE69-30277E63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E1A76D5-ED03-4013-87C2-69A388B8C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B6A4BE7-493E-4566-B102-C70B7686F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5A3BABE-8AA4-41DE-9890-EACEF1FE4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3DBB7E-C2B5-4063-BFD5-74AFF39FD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0E725F-4548-4F91-90AD-5235246A1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7A8345-37A1-49DF-8F7C-22B77496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2F68C-0D59-445A-8D39-1F43D5F63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178BC84-7983-4445-B026-3A8B174C9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852B9D4-C3E2-47DD-BB1B-C7E672A60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050F385-BB94-4209-B433-0DA03367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DB6E04E-DB0A-4CDC-AA56-3DF8A9A90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F5B384F-DBBB-46A4-8A40-39D554BF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A20EE7-5FD7-49BB-A218-989DBF866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3ECEDB-1C0C-4349-BF5A-702ACBCA6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78D91DC-A719-48D1-97AD-8F6340B5B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E0CDD69-42EE-46FF-8B3E-A2BCF4BAB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7D6C3C4-764F-4BCE-9E3E-DB35728F1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586FC-2EB3-4F56-B6BD-44F53941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D1EB33-647A-4DDD-93DA-50F9DE19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3BE7400-754E-4EA3-A393-D420B8F19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6C44166-D166-47AA-8199-0DAED5FA0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154294-5014-4B16-A45F-477F2C0E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3F4AAB-144C-4774-91E9-079E0E5A0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CA8B2EC-603F-46CB-BB0A-AE8FC36D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F7174C9-336A-4C08-9585-426B321A9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CF7D288-FF7B-42C9-BA11-62E7165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1C3129-A801-4B70-8726-D3CE584AE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1D1CED3-7231-4ECA-A24D-A6DB94D36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08E9EB-7DEC-4B8B-9A44-D08D4B056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92F0CFE-01C4-4CCD-BF07-685C5524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C36721-C119-442B-876A-CD3244CCC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3EF9B4C-6B76-4A7D-BFDA-1A71245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79E4377-F2D7-49CE-9439-4232FE410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0370B34-A9E3-425C-AF97-70CB57A8D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578EC1-5CD1-4C3C-87FD-608ECC59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FE0305F-3E04-4BD9-A125-24B3E67B1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3C9C732-69E6-4508-8B20-9AFBC3654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A4AA045-5113-4194-9C9A-C4CD22EAD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4F59CC-40EF-4105-887D-4AE3E38EF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18FAF6-1039-4CBC-897E-AA90D9D5E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E333DEF-EA44-4EFC-B5EF-323740042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39BE34-A602-4C7F-9C8E-6244F8BDD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80A901-4AEB-4BBB-9DDF-72BDA49C0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1BE459A-B52D-4846-895B-5019415E0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623F5A5-9F14-45DF-A323-2540C28E7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717E6D6-E00B-492E-B46C-AEC41EFFE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6FD18D5-DE3E-4233-B2C3-8BA8C7F4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CA9227-F366-410B-9F13-90C3F0A85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DEDF210-C65D-4099-BCAB-1EC294A26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ECB2BF-B16E-435B-B3E0-15C62D361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292165-4127-42E8-9110-EF54F62B2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453286-DB1B-43B0-A850-EDCFA5C13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2CB5418-9FD7-4C5F-BD6C-8D09A01AE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81234CE-DBE4-4013-9D6D-14EC3B82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28979A9-46F5-426C-BCF6-86468569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80C367-622D-47D9-B105-079EA5674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66E4EA-CDE5-4D86-AC03-23740B5DA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AEAA120-740C-495D-967F-8FC82545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420023-75F3-4186-A2B0-DA272FB6C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B30E068-297F-437C-8705-5FCEB756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BEE3F88-C728-49D4-8D2E-3EA000ED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C9FCA-6419-45DF-89CE-03CF8E447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854297-DA8A-4A6B-A290-FAFAC3D81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D5508E-277C-49CA-A6FF-1D5426AE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7F64414-30EB-45FE-9E51-A84BB3471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A17DEA5-89B3-4706-AFC8-6C62ABC5D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D7E68B-3CB8-4DA2-B3CD-A1C0C4F78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EAC3829-7DD5-4583-A437-23522B05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0A247F0-F6B1-48F8-8375-9F4449B2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AEDE4F-29B3-484E-846D-0F98DD936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82DF615-4BA1-41CE-B647-C7D2DACD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0F302F2-D83A-42C4-A864-1B63796E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9AB6-3ED1-4962-AC06-000C40C52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C8B16-4044-44F0-AC7F-ACC906401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C3E12FB-F1BD-4C2E-A79D-213D21727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85E70A-763A-4232-917D-55FDA178C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A445166-8A58-452E-A983-DD5F3F282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D34B59-C79E-424A-8D9A-64B92D76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2CBE18A-1169-4399-A6AB-FC6DCBFA8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CB5458F-7057-4B35-9049-EA33BBFFF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32D8F72-0F59-4831-9B87-5DF36606E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A449DE8-E0B9-4C1E-8F48-9DB0AB9A7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ECA1A56-DB09-4D0D-BDF9-4A2EA728B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D2AC01-7C12-4D8F-AE5B-315CEF6F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CF5E-6BDD-4307-BB02-3CFD58B9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812EFF6-4903-4B1B-8F0E-B1DC43139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C7FD522-B47B-4C62-9EED-A3DDB1EB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549C67B-C506-4D35-9C25-82BDFD47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062164-DAB0-4B5C-AB42-17713599A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9078BB5-C9D6-49B4-8DD6-3C6904A83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DA3C5A8-4B6A-448D-BC00-9B977C9B8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EA62D1-007E-457D-BADB-8DB40832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5DD95A2-05B3-4116-B639-114625567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F2966A7-40B6-4449-9739-EEC69074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EC06D28-87AF-4ED8-9361-8CF388F17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2A99C-E84B-453B-9F8B-268B73316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55CAFEB-DD59-4BC8-BE59-924E29E94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CAB171F-9C73-4EE9-8D82-F783F1C06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2C28259-407A-4815-992A-59FEFA3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75B82B5-6637-4523-8ECA-DFFA9F0C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7A9136-0772-44B2-8ACC-0B125052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9777B80-7B42-4DF1-A9ED-4CB1452FE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9A0DEFB-E021-4E82-A61E-CD1D99294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6B0F52E-1A1D-44EA-88A4-846843A6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A30484B-9005-45DE-8FF7-BC386E8D2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567CE70-5D11-42B3-AFBB-4E933A6A1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D49932-EADB-4BC1-B629-4A5CA8FC9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4B05027-9FCF-4937-8489-CCD5A008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24C114B-915B-4855-B775-F665679772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CB40462-3976-43B9-880C-234C32D67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B455438-1D42-4F3D-A449-9C63A330F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21CD2E7-654C-47F5-81AC-DD34616C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4BAF413-AEFE-4FD3-AA3E-501CA12C5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106DC65-578F-424E-A1B5-DD33B11C7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58E6054-9161-4F28-88E9-70C6BC007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5B16BFDA-5130-4347-AF18-B0A04178F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2F72093-4491-4D11-87CD-5A4FDB72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B22A63-1321-4E7F-80FD-F588E3B90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126C6D-335B-4A99-872C-D487B8763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187CEA49-0852-472E-BC42-D1E768F07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CE4138A-653B-491E-8AD5-12F842CC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D268095-CBBD-4E6C-BD6A-863980235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942F60E-1BB2-4C4E-A2B8-2BD36147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F7787A0-99D9-4446-8B3A-98346EC7A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28D925F-3B5C-4767-ADD4-711572F9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B5EE33A-1FC1-4F0D-AA72-0DA80CE5C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C04C6B8-8790-4134-A3C3-7F9FAE344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3096A51-3CCA-4C9F-A255-DAED1E178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A49B02-7FD4-45F4-817E-72B06B4D5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A389908-02EE-45EB-9989-DEF2A5612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EB3F4CF-846E-4450-8122-922096BE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8B27FF2-2176-4F0A-AFA2-EE9629BE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8A185F1-3191-4A7A-951B-1BDC67A01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2742845-8EE5-4F2A-9F5B-4F0BC7D2A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BC22FD-A6B8-4E97-A4B9-2DBE6219E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0FA551-04EC-49A6-ADA4-2027F4C04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E2B1CB9-70A2-4063-B815-34F9F4FC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C740A3F-C575-4885-B721-5BA5049FF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A31EF0A-936C-4424-A270-72907C0AF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0C005F-24E3-4BBC-9623-8920186DE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30113A4-CA6C-4BE5-8ABF-9E112277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26DA38-33AF-49F0-8726-3A3C0C83C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71344BC1-84BC-46F2-913F-7FE362687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5564092-6016-489B-96C8-B46D990B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118E7C7-AF50-4043-B715-310693678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AB0F47-233A-4DA1-A5A4-B210F39C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4C94A98-B1DE-4681-8709-DF2FDF87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8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7135A7-FC2C-4341-81F8-86FB06203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1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2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3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4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5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F860399-AFCA-4AA2-98F7-C385A1AF8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A9A44C4-8F93-43BB-B660-43C79EF03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6CD93A-523C-41AF-9BCD-1EC13B478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2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9FB1590-51CB-4AA1-891C-95D2D26F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67E9477-9BB9-44C4-A140-411F8A1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8FA513-9BCE-4445-BCA5-321A1EBE8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3D4D660-E4AD-4118-8C2B-79B661B0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E1C66E4-73F5-46C1-A38F-B326C2AD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EE2D03F-C671-4142-B673-81C5EDC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7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FC157B9-8154-4F5B-86FE-4BA71549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AD69671-D4B3-4F2E-840E-CE9929343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28329A-DBE5-4CC9-8976-5572A2316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C3ED5B5-EE40-42B8-ACB9-26560943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20B23D-9BF8-4FEB-BAFB-A4A7C05A2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2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3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4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5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6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FA37AD9-FE24-4C6F-84D2-16A0CA4FB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B541A4D-062A-4B4F-A40B-23E228F1A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41C7CA1-B16F-417A-B860-E1EA730BC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46EA83-60E5-4AC6-AE28-BC8EFB172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4622A23-2FC4-4A98-BCB2-61401B637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F261716-883A-41E9-85A5-72E084FA1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503BB40-3897-4FA7-A949-160B3800C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9E06347-ECA6-487B-A35E-96FBC798B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B8C0AF5-09F8-4937-8A17-BCDDC688D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8277A31-FB8B-469A-B554-3FF21D34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58295C-106F-4EBD-B113-63893BA02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3420079-F09B-4712-AE84-D0BDD6EB6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69447D8-3256-42EC-ADE5-55B0AADE0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3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4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5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6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7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3D50793-6F17-4A53-84A1-B6EA87B4F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C9C8E7A-74A2-4C83-97D1-02379BB6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4B35525-F02C-4F69-87F2-DF4C5078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6B10482-58C6-4BBA-A915-08D458B6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DF4507-41ED-471E-9312-38FAE5F02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39E5395-EEB8-42C0-9283-22E4C557E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43120F-E98F-4095-BD53-2260B157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84C7AB8-D87C-4900-975E-B8DF768C9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4D2E-C8FB-4DCB-B4B6-04057C5E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CB827A-A2FB-4A47-93CC-7D6789546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DFC926-2425-40DD-8221-39C6E5C9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5F1B5EE-487A-4D3C-863B-EE2BBBB1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ABF0EB2-B70C-40A9-B437-4C469F9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1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7D40C0-8BCF-42EB-A861-E9D443ABF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7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8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2AF818E-D4F6-41FE-956F-880B45507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21E807F-4B52-489B-8BAD-B787E9DEF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4D419DD-0350-4716-A4CF-B0AF3EC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D5D4C09-3EEE-43D8-8182-3093C88DD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968F081-EF24-4C06-84CB-8E7D6660B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71870C3-8F14-4555-803F-461F298F1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C561B-198D-488C-A57D-9C6FE67C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4EA6EB4-058E-47F6-8333-A1033A31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D383647-2207-4719-BEDA-726BBF388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6293B31-3F55-44BF-A877-5207EE92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412339-5AE6-48CD-9CA5-18D6EC6EF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7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03282E9-3B74-4EBB-9A41-612B195B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2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A6AB44A-610D-4FA7-9B37-53524444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7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8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9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C3F85E3-0806-43D6-B5C6-2BE9AA875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022FCC-4CB6-458A-A94D-4B1BE8A96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4B1D255-3731-4243-8F01-F5A0F0DCD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7DF0672-A464-42A1-95B1-FE292BFEC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2EFE8-AD02-4876-9B2E-85482CDCF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A00551B-5AFC-4499-9D78-A3276136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1EF56C68-1390-4F92-950B-1F80F4AB2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49F6C2-A0E7-4A0C-87DF-723A476DB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2341716-B515-4E27-873B-925BC2F5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27E8C8F-512B-4EBB-B6BD-D1A2C68FA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5FB9F85-BEF1-4951-966A-552590600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34548B8-9F4E-46DC-B779-DE145E72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869E2C38-E82B-47BF-9A74-93F8B6D6F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2582B8-3D69-4B62-BEE9-89CE44205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FD8E0-DB11-4E70-AC73-2C7A35F77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142DE2-0D9C-4410-8DB4-3F159779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EE87F7-C27B-42F1-AC88-1592430A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D96FE4-319E-4018-B856-DF012C3E7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86EBC-F748-4575-A7D0-07B513826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4C1E3A-97DF-4E1A-8C90-FA4A847A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27DCB1-6955-4E41-BFB5-01E763E5E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653D-C215-44EC-AB7E-100AA9FB0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46665C-FA18-4972-9BF0-E68660CF8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EB5070-9C46-47F1-8350-6811ECEA4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8FB6AF-077F-4C47-915A-7D6DA943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38597-DEA8-41D0-9394-15A7E829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09EBF-7616-402D-BAEE-E4590490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764339-0E4A-4169-9C6F-7E5573EB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553C4C-B015-4692-86AF-E1ABB5B39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DB383F-4BB8-4C88-BC2B-24D74EF8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00A5C-3130-441C-9D51-19D7CAA92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DAAF6-ACA5-4DA7-97DB-17B193993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FFF0-6F90-4BA4-A1FE-5A7FCE6F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ED39E6-DAB5-4FB5-9E17-D8E97F4DA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63B83B-7538-48CE-9332-3DD27EF6E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572AF-50D2-4E59-9488-FBBCB365E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5EFF36-CF82-4839-88CE-F43874FCE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DE1812-A060-44E9-8632-D041FD04A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69F86-521D-4EE3-8DB0-C859755E2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55C7D-A6EC-4669-8B2B-9088AD283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39993-F86A-428A-A120-68D5349A8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4A523-6AAF-4C6F-B63E-6F4AE1EFA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2DEA53-6245-4364-8F3A-D43488E0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3F06C-3675-40C8-99DB-9D871C6D7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284B0-178D-4135-9CA9-9D36A71B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DD794A-A03F-4A54-9884-34A2BE9FE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4DDDA-F64C-47B1-B55D-330E674BA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828224-9E56-4702-9FBF-1F0F9B0CF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2AAFC8-01A1-4AFB-83DC-78EDAB549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7701B1-F7CE-4CC8-A25F-632D77FDB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25EED0-AD96-4793-B98B-D3EEF927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DEA33C-D36A-4656-A19A-35336013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4182A7-B397-434B-8719-DB99A0D38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B3D80B-BFAC-4D9B-B849-1147AB455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34CD-A420-44FD-A673-4408A2B0F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12F3B1-0DF3-4AF5-82FB-45AFB0BC3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59111-6564-4247-AC0D-33442DAD1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4A03D9-6877-41B2-AA74-E7A66A73E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41D84-D699-432C-94B0-7F6F520E5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405C11-46BB-4F4E-9137-5F0591A57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B073B9-8E67-425A-8706-83E39E975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446BA8-EB03-449D-99E3-788940B5E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6B377-243A-4F58-90AE-2446DC152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E86B39-3A79-4DBC-9F33-3BC670245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3FF1C5-5B52-4033-8F99-6102E6C68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3251160"/>
            <a:ext cx="6756120" cy="1402920"/>
            <a:chOff x="0" y="3251160"/>
            <a:chExt cx="6756120" cy="1402920"/>
          </a:xfrm>
        </p:grpSpPr>
        <p:grpSp>
          <p:nvGrpSpPr>
            <p:cNvPr id="1" name="Group 1027"/>
            <p:cNvGrpSpPr/>
            <p:nvPr/>
          </p:nvGrpSpPr>
          <p:grpSpPr>
            <a:xfrm>
              <a:off x="219960" y="3394800"/>
              <a:ext cx="533880" cy="632880"/>
              <a:chOff x="219960" y="3394800"/>
              <a:chExt cx="533880" cy="632880"/>
            </a:xfrm>
          </p:grpSpPr>
          <p:sp>
            <p:nvSpPr>
              <p:cNvPr id="2" name="Rectangle 1028"/>
              <p:cNvSpPr/>
              <p:nvPr/>
            </p:nvSpPr>
            <p:spPr>
              <a:xfrm>
                <a:off x="219960" y="3394800"/>
                <a:ext cx="330120" cy="63288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" name="Rectangle 1029"/>
              <p:cNvSpPr/>
              <p:nvPr/>
            </p:nvSpPr>
            <p:spPr>
              <a:xfrm>
                <a:off x="509040" y="3394800"/>
                <a:ext cx="244800" cy="63288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4" name="Group 1030"/>
            <p:cNvGrpSpPr/>
            <p:nvPr/>
          </p:nvGrpSpPr>
          <p:grpSpPr>
            <a:xfrm>
              <a:off x="312840" y="3957840"/>
              <a:ext cx="554760" cy="632880"/>
              <a:chOff x="312840" y="3957840"/>
              <a:chExt cx="554760" cy="632880"/>
            </a:xfrm>
          </p:grpSpPr>
          <p:sp>
            <p:nvSpPr>
              <p:cNvPr id="5" name="Rectangle 1031"/>
              <p:cNvSpPr/>
              <p:nvPr/>
            </p:nvSpPr>
            <p:spPr>
              <a:xfrm>
                <a:off x="312840" y="3957840"/>
                <a:ext cx="317520" cy="63288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589320" y="3957840"/>
                <a:ext cx="278280" cy="63288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7" name="Rectangle 1033"/>
            <p:cNvSpPr/>
            <p:nvPr/>
          </p:nvSpPr>
          <p:spPr>
            <a:xfrm>
              <a:off x="0" y="3860280"/>
              <a:ext cx="420120" cy="562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8" name="Rectangle 1034"/>
            <p:cNvSpPr/>
            <p:nvPr/>
          </p:nvSpPr>
          <p:spPr>
            <a:xfrm>
              <a:off x="475920" y="3251160"/>
              <a:ext cx="23400" cy="140292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9" name="Rectangle 1035"/>
            <p:cNvSpPr/>
            <p:nvPr/>
          </p:nvSpPr>
          <p:spPr>
            <a:xfrm flipV="1">
              <a:off x="236880" y="4346280"/>
              <a:ext cx="6519240" cy="7380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90D6E-69F5-48F6-90A4-2205D41B2A7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B16D-80FF-42E3-9072-14973591BE7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8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6E50-7DC7-4EBD-B51B-3AC97F66EF15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9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30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7296C-2986-44DA-988A-234D31E4F06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dt" idx="31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E3D0E-B65F-4D2B-BC16-D0E95E32544E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ftr" idx="32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sldNum" idx="33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ABF-167C-4370-AB1D-A00B60ABFDEC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34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82909-0D5B-42C2-83CB-31CDFEAF5BD8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35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36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8799-AAD0-441D-BF75-5353E51DED5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dt" idx="37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1F3B7-B151-4C3B-BEFB-DCF2DB7BBFF6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 type="ftr" idx="38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5"/>
          <p:cNvSpPr>
            <a:spLocks noGrp="1"/>
          </p:cNvSpPr>
          <p:nvPr>
            <p:ph type="sldNum" idx="39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F28AA-F1ED-4324-91EA-88DBBAD75E2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4C73-253A-453E-9749-3989CF7CCEB3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FB8CA-95F5-43E8-8E01-CFC1FE809DF0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 type="dt" idx="43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0D205-A7D1-498B-9CD3-6073158EF47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 type="ftr" idx="44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 type="sldNum" idx="45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99B16-BF53-4847-861E-39519A5C38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 type="dt" idx="46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4DCE-8ED7-483D-919C-49FA92C97840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 type="ftr" idx="47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 type="sldNum" idx="48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F9D3F-A4F4-4E2A-9DE9-7CC8AC8DE8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 type="dt" idx="49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6BA66-F959-4C2D-977A-38473576F336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 type="ftr" idx="50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 type="sldNum" idx="51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8AA48-6307-40E5-B5AA-1D537518FC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 type="dt" idx="52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74A5B-A8FA-48A2-AC73-8FFF7F2280B9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 type="ftr" idx="53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 type="sldNum" idx="54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096A0-DB5E-4F72-B54C-02ED36D831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 type="dt" idx="55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3B0E-5DA2-498A-8255-2F4C573D0ED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 type="ftr" idx="56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 type="sldNum" idx="57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7132-31E5-4E1D-AEF4-58C64FE0B7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312840" y="1465200"/>
            <a:ext cx="328680" cy="631800"/>
          </a:xfrm>
          <a:prstGeom prst="rect">
            <a:avLst/>
          </a:prstGeom>
          <a:solidFill>
            <a:srgbClr val="4b4e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3"/>
          <p:cNvSpPr/>
          <p:nvPr/>
        </p:nvSpPr>
        <p:spPr>
          <a:xfrm>
            <a:off x="600120" y="1465200"/>
            <a:ext cx="245880" cy="631800"/>
          </a:xfrm>
          <a:prstGeom prst="rect">
            <a:avLst/>
          </a:prstGeom>
          <a:gradFill rotWithShape="0">
            <a:gsLst>
              <a:gs pos="0">
                <a:srgbClr val="4b4eb5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406440" y="2027160"/>
            <a:ext cx="315720" cy="633600"/>
          </a:xfrm>
          <a:prstGeom prst="rect">
            <a:avLst/>
          </a:prstGeom>
          <a:solidFill>
            <a:srgbClr val="76b7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684360" y="2027160"/>
            <a:ext cx="276120" cy="633600"/>
          </a:xfrm>
          <a:prstGeom prst="rect">
            <a:avLst/>
          </a:prstGeom>
          <a:gradFill rotWithShape="0">
            <a:gsLst>
              <a:gs pos="0">
                <a:srgbClr val="76b749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95400" y="1930320"/>
            <a:ext cx="420480" cy="5637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481c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571680" y="1320840"/>
            <a:ext cx="23760" cy="14032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31920" y="2374920"/>
            <a:ext cx="6170400" cy="42840"/>
          </a:xfrm>
          <a:prstGeom prst="rect">
            <a:avLst/>
          </a:prstGeom>
          <a:gradFill rotWithShape="0">
            <a:gsLst>
              <a:gs pos="0">
                <a:srgbClr val="333333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5467A-A56E-4159-8E1B-C18AB5A3670D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4720F-64DB-4CF0-B556-70CC20376C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 type="dt" idx="58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E8B4-D71D-4131-B271-6D947C5B22E8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 type="ftr" idx="59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PlaceHolder 5"/>
          <p:cNvSpPr>
            <a:spLocks noGrp="1"/>
          </p:cNvSpPr>
          <p:nvPr>
            <p:ph type="sldNum" idx="60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1AE07-1BF3-4461-BB57-842BC1FB14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 type="dt" idx="61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5246A-C7E9-497D-A420-042953F63A1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 type="ftr" idx="62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 type="sldNum" idx="63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8F671-7B03-4A33-8DFC-EA55C8804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 type="dt" idx="64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BE9BB-6DFF-4009-BABA-F36BC1B58853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 type="ftr" idx="65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5"/>
          <p:cNvSpPr>
            <a:spLocks noGrp="1"/>
          </p:cNvSpPr>
          <p:nvPr>
            <p:ph type="sldNum" idx="66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EC481-D23A-4DFF-85DC-C67EE2C548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 type="dt" idx="67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0885E-D7FF-4ADC-AA9B-FC605B6378EC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 type="ftr" idx="68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 type="sldNum" idx="69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9671-6952-4879-8DA2-E3A9FFB68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 type="dt" idx="70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D5142-58C2-408D-9661-380836F187D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 type="ftr" idx="71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 type="sldNum" idx="72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B35A6-CF6A-4EE7-9B34-D35FB88155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 type="dt" idx="73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6172-FBEB-40C4-BD0D-C7A8AA708D6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4"/>
          <p:cNvSpPr>
            <a:spLocks noGrp="1"/>
          </p:cNvSpPr>
          <p:nvPr>
            <p:ph type="ftr" idx="74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5"/>
          <p:cNvSpPr>
            <a:spLocks noGrp="1"/>
          </p:cNvSpPr>
          <p:nvPr>
            <p:ph type="sldNum" idx="75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9D670-1B1C-46CA-B7F8-A0E97E9DE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 type="dt" idx="76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EA804-65DB-4BE8-A4CB-563CB0E9187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PlaceHolder 4"/>
          <p:cNvSpPr>
            <a:spLocks noGrp="1"/>
          </p:cNvSpPr>
          <p:nvPr>
            <p:ph type="ftr" idx="77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PlaceHolder 5"/>
          <p:cNvSpPr>
            <a:spLocks noGrp="1"/>
          </p:cNvSpPr>
          <p:nvPr>
            <p:ph type="sldNum" idx="78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C9EFA-F762-416C-8739-5099FA002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 type="dt" idx="79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A26FA-91ED-491B-9536-5CDA7F9859A4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 type="ftr" idx="80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PlaceHolder 5"/>
          <p:cNvSpPr>
            <a:spLocks noGrp="1"/>
          </p:cNvSpPr>
          <p:nvPr>
            <p:ph type="sldNum" idx="81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C3393-A398-44F1-BA19-D3A235CA8E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 type="dt" idx="82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BBEC5-1DDD-411D-BAB7-C26ED83C0A5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 type="ftr" idx="83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 type="sldNum" idx="84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10C11-B61D-4E5A-AF2F-FB0423907A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6b7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 type="dt" idx="85"/>
          </p:nvPr>
        </p:nvSpPr>
        <p:spPr>
          <a:xfrm>
            <a:off x="3485880" y="8534160"/>
            <a:ext cx="1428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53A9-7B57-4657-B2FA-98BAF8ACD391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 type="ftr" idx="86"/>
          </p:nvPr>
        </p:nvSpPr>
        <p:spPr>
          <a:xfrm>
            <a:off x="4000320" y="8838720"/>
            <a:ext cx="2857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0c0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                                           </a:t>
            </a:r>
            <a:r>
              <a:rPr b="0" lang="en-US" sz="1400" spc="-1" strike="noStrike">
                <a:solidFill>
                  <a:srgbClr val="c0c0c0"/>
                </a:solidFill>
                <a:latin typeface="Times New Roman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 type="sldNum" idx="87"/>
          </p:nvPr>
        </p:nvSpPr>
        <p:spPr>
          <a:xfrm>
            <a:off x="-360" y="8838720"/>
            <a:ext cx="1428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8AC82-9591-4571-B7FE-64FED490F2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C5816-8619-405D-A00D-193BA968CA4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522E-DF5F-47B0-B66E-7B7F8BD0F1C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 type="dt" idx="8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5E3BD-7C7A-45AD-8C62-0DE2460D54C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 type="ftr" idx="8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 type="sldNum" idx="9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DA904-FBE7-41D5-8129-3FD1AB9D9B4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 type="dt" idx="9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9609-22D8-490B-B6D2-04083B9E1E47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 type="ftr" idx="9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PlaceHolder 5"/>
          <p:cNvSpPr>
            <a:spLocks noGrp="1"/>
          </p:cNvSpPr>
          <p:nvPr>
            <p:ph type="sldNum" idx="9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B907C-9EE9-467D-8B8C-B7A9D8CCE62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0" name="PlaceHolder 3"/>
          <p:cNvSpPr>
            <a:spLocks noGrp="1"/>
          </p:cNvSpPr>
          <p:nvPr>
            <p:ph type="dt" idx="9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760C-BDCB-4233-8CC5-22E5BA3E95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PlaceHolder 4"/>
          <p:cNvSpPr>
            <a:spLocks noGrp="1"/>
          </p:cNvSpPr>
          <p:nvPr>
            <p:ph type="ftr" idx="9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PlaceHolder 5"/>
          <p:cNvSpPr>
            <a:spLocks noGrp="1"/>
          </p:cNvSpPr>
          <p:nvPr>
            <p:ph type="sldNum" idx="9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A4AD-7004-46D6-8D51-76087131B2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 type="dt" idx="9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50E9D-65F7-473D-AAA1-4D4C7D0BC0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PlaceHolder 4"/>
          <p:cNvSpPr>
            <a:spLocks noGrp="1"/>
          </p:cNvSpPr>
          <p:nvPr>
            <p:ph type="ftr" idx="9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PlaceHolder 5"/>
          <p:cNvSpPr>
            <a:spLocks noGrp="1"/>
          </p:cNvSpPr>
          <p:nvPr>
            <p:ph type="sldNum" idx="9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E2CE9-244A-48EB-9A1C-548A076714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 type="dt" idx="10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AA606-DD30-4E7E-95FF-801C66DA4DE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 type="ftr" idx="10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PlaceHolder 5"/>
          <p:cNvSpPr>
            <a:spLocks noGrp="1"/>
          </p:cNvSpPr>
          <p:nvPr>
            <p:ph type="sldNum" idx="10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8F717-9F5E-4D2F-911B-8FAF30D74D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2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3" name="PlaceHolder 3"/>
          <p:cNvSpPr>
            <a:spLocks noGrp="1"/>
          </p:cNvSpPr>
          <p:nvPr>
            <p:ph type="dt" idx="103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71C55-E022-4210-9C15-418778EB92A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PlaceHolder 4"/>
          <p:cNvSpPr>
            <a:spLocks noGrp="1"/>
          </p:cNvSpPr>
          <p:nvPr>
            <p:ph type="ftr" idx="104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PlaceHolder 5"/>
          <p:cNvSpPr>
            <a:spLocks noGrp="1"/>
          </p:cNvSpPr>
          <p:nvPr>
            <p:ph type="sldNum" idx="105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71F3-1FEE-46C2-9D14-9969569F770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3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4" name="PlaceHolder 3"/>
          <p:cNvSpPr>
            <a:spLocks noGrp="1"/>
          </p:cNvSpPr>
          <p:nvPr>
            <p:ph type="dt" idx="106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3CE5-398B-4762-A1C3-977BF673B3F3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PlaceHolder 4"/>
          <p:cNvSpPr>
            <a:spLocks noGrp="1"/>
          </p:cNvSpPr>
          <p:nvPr>
            <p:ph type="ftr" idx="107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PlaceHolder 5"/>
          <p:cNvSpPr>
            <a:spLocks noGrp="1"/>
          </p:cNvSpPr>
          <p:nvPr>
            <p:ph type="sldNum" idx="108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42827-A758-441B-A7F9-2510B48A218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 type="dt" idx="109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59063-7E60-4126-AA6C-114D83FDFF1B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 type="ftr" idx="110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 type="sldNum" idx="111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3FED7-3897-4BD0-8504-F6F2C4710F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 type="dt" idx="112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2E047-F449-495E-9730-82F96597D0F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 type="ftr" idx="113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 type="sldNum" idx="114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330E2-930A-40F8-8607-BECE26EBD55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 type="dt" idx="115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1945-E05E-4B9D-B903-52FE9660A50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 type="ftr" idx="116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PlaceHolder 5"/>
          <p:cNvSpPr>
            <a:spLocks noGrp="1"/>
          </p:cNvSpPr>
          <p:nvPr>
            <p:ph type="sldNum" idx="117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B197E-AC64-47F8-8056-E69389273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2796A-1DC3-423B-A77F-23E2E451B790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F8C82-CAF4-471E-A1A3-DBB9517EEDA3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 type="dt" idx="118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224F7-5D83-480A-AA0E-0FEAD3FE8AD6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 type="ftr" idx="119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PlaceHolder 5"/>
          <p:cNvSpPr>
            <a:spLocks noGrp="1"/>
          </p:cNvSpPr>
          <p:nvPr>
            <p:ph type="sldNum" idx="120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360C6-884C-4E99-9E21-DBCCE62678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9" name="PlaceHolder 3"/>
          <p:cNvSpPr>
            <a:spLocks noGrp="1"/>
          </p:cNvSpPr>
          <p:nvPr>
            <p:ph type="dt" idx="12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03E2D-0134-488B-A3A6-CF8DFE2218D4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PlaceHolder 4"/>
          <p:cNvSpPr>
            <a:spLocks noGrp="1"/>
          </p:cNvSpPr>
          <p:nvPr>
            <p:ph type="ftr" idx="12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5"/>
          <p:cNvSpPr>
            <a:spLocks noGrp="1"/>
          </p:cNvSpPr>
          <p:nvPr>
            <p:ph type="sldNum" idx="12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D739A-5EC0-45AD-8FB6-89EFBF0F5F2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 type="dt" idx="124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09979-38A5-4635-BB3D-8EE01593D5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1" name="PlaceHolder 4"/>
          <p:cNvSpPr>
            <a:spLocks noGrp="1"/>
          </p:cNvSpPr>
          <p:nvPr>
            <p:ph type="ftr" idx="125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PlaceHolder 5"/>
          <p:cNvSpPr>
            <a:spLocks noGrp="1"/>
          </p:cNvSpPr>
          <p:nvPr>
            <p:ph type="sldNum" idx="126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549E7-A725-4CD4-B711-00A010AD0E3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1" name="PlaceHolder 3"/>
          <p:cNvSpPr>
            <a:spLocks noGrp="1"/>
          </p:cNvSpPr>
          <p:nvPr>
            <p:ph type="dt" idx="127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F185E-436D-462A-B040-F6F8D245EF52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PlaceHolder 4"/>
          <p:cNvSpPr>
            <a:spLocks noGrp="1"/>
          </p:cNvSpPr>
          <p:nvPr>
            <p:ph type="ftr" idx="128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PlaceHolder 5"/>
          <p:cNvSpPr>
            <a:spLocks noGrp="1"/>
          </p:cNvSpPr>
          <p:nvPr>
            <p:ph type="sldNum" idx="129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E6FA-A159-4266-A140-2BB4547199E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 type="dt" idx="130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3B6B-A02D-4F36-B0D1-AF52ED51F95A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 type="ftr" idx="131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PlaceHolder 5"/>
          <p:cNvSpPr>
            <a:spLocks noGrp="1"/>
          </p:cNvSpPr>
          <p:nvPr>
            <p:ph type="sldNum" idx="132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DAADA-F71A-4960-8111-0760B135651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 type="dt" idx="13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CD599-64CC-4EB8-822A-3930E6C7432A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 type="ftr" idx="14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 type="sldNum" idx="15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6AAC-3701-4484-86BC-87AFFEA7114F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84CA8-611B-4CDD-ABE4-4CFB822FD229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2306B-24B3-4E56-80A0-732CD7EAA8B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BB19B-E003-4941-B368-3D66C3929B59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74479-CB12-4295-ACF0-BF038CACC277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22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D710-B833-4848-98E5-1FB74222F5C8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3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4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5FE2C-7BE5-4B3E-8395-336DD1402B1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9feff"/>
            </a:gs>
            <a:gs pos="100000">
              <a:srgbClr val="e9fe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80028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55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5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dt" idx="25"/>
          </p:nvPr>
        </p:nvSpPr>
        <p:spPr>
          <a:xfrm>
            <a:off x="7426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CA454-DE76-4597-89F6-6176DF165FCD}" type="datetime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ftr" idx="26"/>
          </p:nvPr>
        </p:nvSpPr>
        <p:spPr>
          <a:xfrm>
            <a:off x="25718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c1c1c"/>
                </a:solidFill>
                <a:latin typeface="Times New Roman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sldNum" idx="27"/>
          </p:nvPr>
        </p:nvSpPr>
        <p:spPr>
          <a:xfrm>
            <a:off x="51436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99F98-09BE-4A91-B345-EDB8244FC7E9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2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3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8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topics/simpsons_13rd_rule.html" TargetMode="External"/><Relationship Id="rId2" Type="http://schemas.openxmlformats.org/officeDocument/2006/relationships/slideLayout" Target="../slideLayouts/slideLayout3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numericalmethods.eng.usf.edu/" TargetMode="External"/><Relationship Id="rId2" Type="http://schemas.openxmlformats.org/officeDocument/2006/relationships/slideLayout" Target="../slideLayouts/slideLayout36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0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171360" y="1117080"/>
            <a:ext cx="6515280" cy="772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Simpson’s 1/3</a:t>
            </a:r>
            <a:r>
              <a:rPr b="0" lang="en-US" sz="5400" spc="-1" strike="noStrike" baseline="30000">
                <a:solidFill>
                  <a:srgbClr val="333399"/>
                </a:solidFill>
                <a:latin typeface="Tahoma"/>
              </a:rPr>
              <a:t>rd</a:t>
            </a: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 Rule of Integration</a:t>
            </a:r>
            <a:br>
              <a:rPr sz="4800"/>
            </a:br>
            <a:br>
              <a:rPr sz="4800"/>
            </a:b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   </a:t>
            </a:r>
            <a:br>
              <a:rPr sz="4800"/>
            </a:br>
            <a:br>
              <a:rPr sz="4800"/>
            </a:br>
            <a:r>
              <a:rPr b="0" lang="en-US" sz="4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numericalmethods.eng.usf.edu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F8566-8434-4CFC-89DC-6988043F0114}" type="slidenum">
              <a:rPr b="0" lang="ar-SA" sz="1200" spc="-1" strike="noStrike">
                <a:solidFill>
                  <a:srgbClr val="898989"/>
                </a:solidFill>
                <a:latin typeface="Tahom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5" name="Text Box 3"/>
          <p:cNvSpPr/>
          <p:nvPr/>
        </p:nvSpPr>
        <p:spPr>
          <a:xfrm>
            <a:off x="399960" y="25401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36" name=""/>
          <p:cNvGraphicFramePr/>
          <p:nvPr/>
        </p:nvGraphicFramePr>
        <p:xfrm>
          <a:off x="3029040" y="2641680"/>
          <a:ext cx="2993760" cy="1768320"/>
        </p:xfrm>
        <a:graphic>
          <a:graphicData uri="http://schemas.openxmlformats.org/drawingml/2006/table">
            <a:tbl>
              <a:tblPr/>
              <a:tblGrid>
                <a:gridCol w="1260360"/>
                <a:gridCol w="577800"/>
                <a:gridCol w="577800"/>
                <a:gridCol w="57780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7" name="Text Box 24"/>
          <p:cNvSpPr/>
          <p:nvPr/>
        </p:nvSpPr>
        <p:spPr>
          <a:xfrm>
            <a:off x="514440" y="6400800"/>
            <a:ext cx="54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8" name="Object 25"/>
              <p:cNvSpPr txBox="1"/>
              <p:nvPr/>
            </p:nvSpPr>
            <p:spPr>
              <a:xfrm>
                <a:off x="1303200" y="7051680"/>
                <a:ext cx="509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39" name="Rectangle 9"/>
          <p:cNvSpPr/>
          <p:nvPr/>
        </p:nvSpPr>
        <p:spPr>
          <a:xfrm>
            <a:off x="457200" y="4419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2]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0" name="Ink 3"/>
          <p:cNvSpPr/>
          <p:nvPr/>
        </p:nvSpPr>
        <p:spPr>
          <a:xfrm>
            <a:off x="4394160" y="2441520"/>
            <a:ext cx="214200" cy="154080"/>
          </a:xfrm>
          <a:custGeom>
            <a:avLst/>
            <a:gdLst/>
            <a:ahLst/>
            <a:rect l="l" t="t" r="r" b="b"/>
            <a:pathLst>
              <a:path w="596" h="431">
                <a:moveTo>
                  <a:pt x="12601" y="6846"/>
                </a:moveTo>
                <a:lnTo>
                  <a:pt x="12558" y="6813"/>
                </a:lnTo>
                <a:lnTo>
                  <a:pt x="12541" y="6785"/>
                </a:lnTo>
                <a:lnTo>
                  <a:pt x="12502" y="6780"/>
                </a:lnTo>
                <a:lnTo>
                  <a:pt x="12433" y="6772"/>
                </a:lnTo>
                <a:lnTo>
                  <a:pt x="12353" y="6769"/>
                </a:lnTo>
                <a:lnTo>
                  <a:pt x="12303" y="6813"/>
                </a:lnTo>
                <a:lnTo>
                  <a:pt x="12286" y="6828"/>
                </a:lnTo>
                <a:lnTo>
                  <a:pt x="12208" y="6906"/>
                </a:lnTo>
                <a:lnTo>
                  <a:pt x="12204" y="6912"/>
                </a:lnTo>
                <a:lnTo>
                  <a:pt x="12163" y="6973"/>
                </a:lnTo>
                <a:lnTo>
                  <a:pt x="12231" y="7032"/>
                </a:lnTo>
                <a:lnTo>
                  <a:pt x="12237" y="7045"/>
                </a:lnTo>
                <a:lnTo>
                  <a:pt x="12237" y="7078"/>
                </a:lnTo>
                <a:lnTo>
                  <a:pt x="12237" y="7089"/>
                </a:lnTo>
                <a:lnTo>
                  <a:pt x="12270" y="7078"/>
                </a:lnTo>
                <a:lnTo>
                  <a:pt x="12285" y="7034"/>
                </a:lnTo>
                <a:lnTo>
                  <a:pt x="12323" y="7037"/>
                </a:lnTo>
                <a:lnTo>
                  <a:pt x="12336" y="7011"/>
                </a:lnTo>
                <a:lnTo>
                  <a:pt x="12340" y="7002"/>
                </a:lnTo>
                <a:lnTo>
                  <a:pt x="12362" y="6918"/>
                </a:lnTo>
                <a:lnTo>
                  <a:pt x="12369" y="6912"/>
                </a:lnTo>
                <a:lnTo>
                  <a:pt x="12399" y="6888"/>
                </a:lnTo>
                <a:lnTo>
                  <a:pt x="12402" y="6834"/>
                </a:lnTo>
                <a:lnTo>
                  <a:pt x="12402" y="6879"/>
                </a:lnTo>
                <a:lnTo>
                  <a:pt x="12402" y="6978"/>
                </a:lnTo>
                <a:lnTo>
                  <a:pt x="12389" y="7064"/>
                </a:lnTo>
                <a:lnTo>
                  <a:pt x="12435" y="7144"/>
                </a:lnTo>
                <a:lnTo>
                  <a:pt x="12470" y="7205"/>
                </a:lnTo>
                <a:lnTo>
                  <a:pt x="12553" y="7250"/>
                </a:lnTo>
                <a:lnTo>
                  <a:pt x="12634" y="7210"/>
                </a:lnTo>
                <a:lnTo>
                  <a:pt x="12698" y="7178"/>
                </a:lnTo>
                <a:lnTo>
                  <a:pt x="12780" y="7201"/>
                </a:lnTo>
                <a:lnTo>
                  <a:pt x="12799" y="7144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1" name="Ink 4"/>
          <p:cNvSpPr/>
          <p:nvPr/>
        </p:nvSpPr>
        <p:spPr>
          <a:xfrm>
            <a:off x="4976640" y="2251080"/>
            <a:ext cx="333720" cy="344520"/>
          </a:xfrm>
          <a:custGeom>
            <a:avLst/>
            <a:gdLst/>
            <a:ahLst/>
            <a:rect l="l" t="t" r="r" b="b"/>
            <a:pathLst>
              <a:path w="928" h="960">
                <a:moveTo>
                  <a:pt x="14023" y="6350"/>
                </a:moveTo>
                <a:cubicBezTo>
                  <a:pt x="14011" y="6314"/>
                  <a:pt x="13999" y="6289"/>
                  <a:pt x="13957" y="6284"/>
                </a:cubicBezTo>
                <a:cubicBezTo>
                  <a:pt x="13882" y="6275"/>
                  <a:pt x="13912" y="6310"/>
                  <a:pt x="13858" y="6317"/>
                </a:cubicBezTo>
                <a:cubicBezTo>
                  <a:pt x="13803" y="6324"/>
                  <a:pt x="13824" y="6363"/>
                  <a:pt x="13824" y="6416"/>
                </a:cubicBezTo>
                <a:cubicBezTo>
                  <a:pt x="13824" y="6449"/>
                  <a:pt x="13824" y="6482"/>
                  <a:pt x="13824" y="6515"/>
                </a:cubicBezTo>
                <a:cubicBezTo>
                  <a:pt x="13869" y="6515"/>
                  <a:pt x="13932" y="6532"/>
                  <a:pt x="13957" y="6482"/>
                </a:cubicBezTo>
                <a:cubicBezTo>
                  <a:pt x="13985" y="6426"/>
                  <a:pt x="13924" y="6438"/>
                  <a:pt x="13990" y="6416"/>
                </a:cubicBezTo>
                <a:cubicBezTo>
                  <a:pt x="13990" y="6310"/>
                  <a:pt x="13983" y="6503"/>
                  <a:pt x="13990" y="6515"/>
                </a:cubicBezTo>
                <a:cubicBezTo>
                  <a:pt x="14018" y="6565"/>
                  <a:pt x="14075" y="6548"/>
                  <a:pt x="14122" y="6548"/>
                </a:cubicBezTo>
                <a:cubicBezTo>
                  <a:pt x="14133" y="6548"/>
                  <a:pt x="14144" y="6548"/>
                  <a:pt x="14155" y="6548"/>
                </a:cubicBezTo>
              </a:path>
              <a:path w="928" h="960">
                <a:moveTo>
                  <a:pt x="14321" y="6284"/>
                </a:moveTo>
                <a:cubicBezTo>
                  <a:pt x="14321" y="6361"/>
                  <a:pt x="14321" y="6438"/>
                  <a:pt x="14321" y="6515"/>
                </a:cubicBezTo>
              </a:path>
              <a:path w="928" h="960">
                <a:moveTo>
                  <a:pt x="14188" y="6482"/>
                </a:moveTo>
                <a:cubicBezTo>
                  <a:pt x="14188" y="6471"/>
                  <a:pt x="14188" y="6460"/>
                  <a:pt x="14188" y="6449"/>
                </a:cubicBezTo>
                <a:cubicBezTo>
                  <a:pt x="14265" y="6449"/>
                  <a:pt x="14343" y="6449"/>
                  <a:pt x="14420" y="6449"/>
                </a:cubicBezTo>
              </a:path>
              <a:path w="928" h="960">
                <a:moveTo>
                  <a:pt x="14519" y="6251"/>
                </a:moveTo>
                <a:cubicBezTo>
                  <a:pt x="14519" y="6317"/>
                  <a:pt x="14519" y="6383"/>
                  <a:pt x="14519" y="6449"/>
                </a:cubicBezTo>
                <a:cubicBezTo>
                  <a:pt x="14527" y="6415"/>
                  <a:pt x="14570" y="6357"/>
                  <a:pt x="14585" y="6350"/>
                </a:cubicBezTo>
                <a:cubicBezTo>
                  <a:pt x="14596" y="6350"/>
                  <a:pt x="14607" y="6350"/>
                  <a:pt x="14618" y="6350"/>
                </a:cubicBezTo>
                <a:cubicBezTo>
                  <a:pt x="14655" y="6362"/>
                  <a:pt x="14680" y="6395"/>
                  <a:pt x="14684" y="6449"/>
                </a:cubicBezTo>
                <a:cubicBezTo>
                  <a:pt x="14687" y="6488"/>
                  <a:pt x="14662" y="6559"/>
                  <a:pt x="14618" y="6582"/>
                </a:cubicBezTo>
                <a:cubicBezTo>
                  <a:pt x="14576" y="6604"/>
                  <a:pt x="14584" y="6615"/>
                  <a:pt x="14519" y="6615"/>
                </a:cubicBezTo>
                <a:cubicBezTo>
                  <a:pt x="14465" y="6615"/>
                  <a:pt x="14502" y="6598"/>
                  <a:pt x="14453" y="6582"/>
                </a:cubicBezTo>
              </a:path>
              <a:path w="928" h="960">
                <a:moveTo>
                  <a:pt x="13990" y="6714"/>
                </a:moveTo>
                <a:cubicBezTo>
                  <a:pt x="14244" y="6714"/>
                  <a:pt x="14497" y="6714"/>
                  <a:pt x="14751" y="6714"/>
                </a:cubicBezTo>
                <a:cubicBezTo>
                  <a:pt x="14733" y="6767"/>
                  <a:pt x="14725" y="6747"/>
                  <a:pt x="14651" y="6747"/>
                </a:cubicBezTo>
              </a:path>
              <a:path w="928" h="960">
                <a:moveTo>
                  <a:pt x="14056" y="6978"/>
                </a:moveTo>
                <a:cubicBezTo>
                  <a:pt x="14066" y="6975"/>
                  <a:pt x="14185" y="6949"/>
                  <a:pt x="14188" y="6945"/>
                </a:cubicBezTo>
                <a:cubicBezTo>
                  <a:pt x="14188" y="6912"/>
                  <a:pt x="14188" y="6901"/>
                  <a:pt x="14221" y="6912"/>
                </a:cubicBezTo>
                <a:cubicBezTo>
                  <a:pt x="14221" y="7001"/>
                  <a:pt x="14211" y="7066"/>
                  <a:pt x="14188" y="7111"/>
                </a:cubicBezTo>
                <a:cubicBezTo>
                  <a:pt x="14166" y="7155"/>
                  <a:pt x="14171" y="7130"/>
                  <a:pt x="14155" y="7177"/>
                </a:cubicBezTo>
                <a:cubicBezTo>
                  <a:pt x="14269" y="7193"/>
                  <a:pt x="14370" y="7210"/>
                  <a:pt x="14486" y="7210"/>
                </a:cubicBezTo>
                <a:cubicBezTo>
                  <a:pt x="14497" y="7210"/>
                  <a:pt x="14607" y="7210"/>
                  <a:pt x="14519" y="721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2" name="Ink 5"/>
          <p:cNvSpPr/>
          <p:nvPr/>
        </p:nvSpPr>
        <p:spPr>
          <a:xfrm>
            <a:off x="5572080" y="2405160"/>
            <a:ext cx="166680" cy="261720"/>
          </a:xfrm>
          <a:custGeom>
            <a:avLst/>
            <a:gdLst/>
            <a:ahLst/>
            <a:rect l="l" t="t" r="r" b="b"/>
            <a:pathLst>
              <a:path w="464" h="728">
                <a:moveTo>
                  <a:pt x="15577" y="6681"/>
                </a:moveTo>
                <a:lnTo>
                  <a:pt x="15625" y="6713"/>
                </a:lnTo>
                <a:lnTo>
                  <a:pt x="15610" y="6771"/>
                </a:lnTo>
                <a:lnTo>
                  <a:pt x="15610" y="6846"/>
                </a:lnTo>
                <a:lnTo>
                  <a:pt x="15610" y="7011"/>
                </a:lnTo>
                <a:lnTo>
                  <a:pt x="15610" y="7177"/>
                </a:lnTo>
                <a:lnTo>
                  <a:pt x="15610" y="7342"/>
                </a:lnTo>
                <a:lnTo>
                  <a:pt x="15680" y="7342"/>
                </a:lnTo>
                <a:lnTo>
                  <a:pt x="15677" y="7346"/>
                </a:lnTo>
                <a:lnTo>
                  <a:pt x="15677" y="7276"/>
                </a:lnTo>
                <a:lnTo>
                  <a:pt x="15677" y="7202"/>
                </a:lnTo>
                <a:lnTo>
                  <a:pt x="15694" y="7177"/>
                </a:lnTo>
                <a:lnTo>
                  <a:pt x="15710" y="7144"/>
                </a:lnTo>
                <a:lnTo>
                  <a:pt x="15727" y="7111"/>
                </a:lnTo>
                <a:lnTo>
                  <a:pt x="15740" y="7070"/>
                </a:lnTo>
                <a:lnTo>
                  <a:pt x="15743" y="7045"/>
                </a:lnTo>
                <a:lnTo>
                  <a:pt x="15750" y="6990"/>
                </a:lnTo>
                <a:lnTo>
                  <a:pt x="15789" y="7011"/>
                </a:lnTo>
                <a:lnTo>
                  <a:pt x="15842" y="7011"/>
                </a:lnTo>
                <a:lnTo>
                  <a:pt x="15941" y="7011"/>
                </a:lnTo>
                <a:lnTo>
                  <a:pt x="15872" y="7082"/>
                </a:lnTo>
                <a:lnTo>
                  <a:pt x="15908" y="7111"/>
                </a:lnTo>
                <a:lnTo>
                  <a:pt x="15946" y="7141"/>
                </a:lnTo>
                <a:lnTo>
                  <a:pt x="15941" y="7140"/>
                </a:lnTo>
                <a:lnTo>
                  <a:pt x="15941" y="7210"/>
                </a:lnTo>
                <a:lnTo>
                  <a:pt x="15941" y="7282"/>
                </a:lnTo>
                <a:lnTo>
                  <a:pt x="15932" y="7276"/>
                </a:lnTo>
                <a:lnTo>
                  <a:pt x="15908" y="7309"/>
                </a:lnTo>
                <a:lnTo>
                  <a:pt x="15866" y="7366"/>
                </a:lnTo>
                <a:lnTo>
                  <a:pt x="15851" y="7400"/>
                </a:lnTo>
                <a:lnTo>
                  <a:pt x="15776" y="7408"/>
                </a:lnTo>
                <a:lnTo>
                  <a:pt x="15710" y="7415"/>
                </a:lnTo>
                <a:lnTo>
                  <a:pt x="15711" y="7347"/>
                </a:lnTo>
                <a:lnTo>
                  <a:pt x="15677" y="7309"/>
                </a:lnTo>
                <a:lnTo>
                  <a:pt x="15613" y="7238"/>
                </a:lnTo>
                <a:lnTo>
                  <a:pt x="15568" y="7251"/>
                </a:lnTo>
                <a:lnTo>
                  <a:pt x="15478" y="7243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1BBCD-5093-41A5-BB3E-D3445F5444B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6" name="Object 56"/>
              <p:cNvSpPr txBox="1"/>
              <p:nvPr/>
            </p:nvSpPr>
            <p:spPr>
              <a:xfrm>
                <a:off x="1281240" y="1646280"/>
                <a:ext cx="2728800" cy="974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7" name="Object 55"/>
              <p:cNvSpPr txBox="1"/>
              <p:nvPr/>
            </p:nvSpPr>
            <p:spPr>
              <a:xfrm>
                <a:off x="1168560" y="2743200"/>
                <a:ext cx="47606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8" name="Object 54"/>
              <p:cNvSpPr txBox="1"/>
              <p:nvPr/>
            </p:nvSpPr>
            <p:spPr>
              <a:xfrm>
                <a:off x="1654200" y="3886200"/>
                <a:ext cx="415764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9" name="Object 53"/>
              <p:cNvSpPr txBox="1"/>
              <p:nvPr/>
            </p:nvSpPr>
            <p:spPr>
              <a:xfrm>
                <a:off x="1523880" y="5529240"/>
                <a:ext cx="480060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0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0" name="Object 52"/>
              <p:cNvSpPr txBox="1"/>
              <p:nvPr/>
            </p:nvSpPr>
            <p:spPr>
              <a:xfrm>
                <a:off x="2028960" y="6705720"/>
                <a:ext cx="3228840" cy="144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04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7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1" name="Ink 10"/>
          <p:cNvSpPr/>
          <p:nvPr/>
        </p:nvSpPr>
        <p:spPr>
          <a:xfrm>
            <a:off x="2286000" y="2357280"/>
            <a:ext cx="108000" cy="190800"/>
          </a:xfrm>
          <a:custGeom>
            <a:avLst/>
            <a:gdLst/>
            <a:ahLst/>
            <a:rect l="l" t="t" r="r" b="b"/>
            <a:pathLst>
              <a:path w="299" h="531">
                <a:moveTo>
                  <a:pt x="6383" y="6714"/>
                </a:moveTo>
                <a:lnTo>
                  <a:pt x="6383" y="6835"/>
                </a:lnTo>
                <a:lnTo>
                  <a:pt x="6383" y="6957"/>
                </a:lnTo>
                <a:lnTo>
                  <a:pt x="6383" y="7078"/>
                </a:lnTo>
                <a:lnTo>
                  <a:pt x="6460" y="7078"/>
                </a:lnTo>
                <a:lnTo>
                  <a:pt x="6538" y="7078"/>
                </a:lnTo>
                <a:lnTo>
                  <a:pt x="6615" y="7078"/>
                </a:lnTo>
                <a:lnTo>
                  <a:pt x="6615" y="7011"/>
                </a:lnTo>
                <a:lnTo>
                  <a:pt x="6630" y="6999"/>
                </a:lnTo>
                <a:lnTo>
                  <a:pt x="6648" y="6945"/>
                </a:lnTo>
                <a:lnTo>
                  <a:pt x="6677" y="6857"/>
                </a:lnTo>
                <a:lnTo>
                  <a:pt x="6635" y="6721"/>
                </a:lnTo>
                <a:lnTo>
                  <a:pt x="6615" y="6681"/>
                </a:lnTo>
                <a:lnTo>
                  <a:pt x="6588" y="6628"/>
                </a:lnTo>
                <a:lnTo>
                  <a:pt x="6628" y="6608"/>
                </a:lnTo>
                <a:lnTo>
                  <a:pt x="6548" y="6582"/>
                </a:lnTo>
                <a:lnTo>
                  <a:pt x="6497" y="6565"/>
                </a:lnTo>
                <a:lnTo>
                  <a:pt x="6521" y="6548"/>
                </a:lnTo>
                <a:lnTo>
                  <a:pt x="6449" y="6548"/>
                </a:lnTo>
                <a:lnTo>
                  <a:pt x="6438" y="6548"/>
                </a:lnTo>
                <a:lnTo>
                  <a:pt x="6427" y="6548"/>
                </a:lnTo>
                <a:lnTo>
                  <a:pt x="6416" y="6548"/>
                </a:lnTo>
                <a:lnTo>
                  <a:pt x="6416" y="6623"/>
                </a:lnTo>
                <a:lnTo>
                  <a:pt x="6390" y="6594"/>
                </a:lnTo>
                <a:lnTo>
                  <a:pt x="6383" y="6648"/>
                </a:lnTo>
                <a:lnTo>
                  <a:pt x="6375" y="6711"/>
                </a:lnTo>
                <a:lnTo>
                  <a:pt x="6364" y="6720"/>
                </a:lnTo>
                <a:lnTo>
                  <a:pt x="6350" y="6747"/>
                </a:lnTo>
                <a:lnTo>
                  <a:pt x="6336" y="6774"/>
                </a:lnTo>
                <a:lnTo>
                  <a:pt x="6350" y="6848"/>
                </a:lnTo>
                <a:lnTo>
                  <a:pt x="6350" y="6879"/>
                </a:lnTo>
                <a:close/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Footer Placeholder 1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3" name="Slide Number Placeholder 2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F44D-32B9-4CB6-A183-0FB74F1439D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4" name="Rectangle 7"/>
          <p:cNvSpPr/>
          <p:nvPr/>
        </p:nvSpPr>
        <p:spPr>
          <a:xfrm>
            <a:off x="0" y="4648320"/>
            <a:ext cx="68580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ur segment Simpson’s 1/3rd Rule to find the approximate value 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57200" indent="-457200"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5" name="Rectangle 2"/>
          <p:cNvSpPr/>
          <p:nvPr/>
        </p:nvSpPr>
        <p:spPr>
          <a:xfrm>
            <a:off x="520560" y="304920"/>
            <a:ext cx="584532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6" name="Rectangle 3"/>
          <p:cNvSpPr/>
          <p:nvPr/>
        </p:nvSpPr>
        <p:spPr>
          <a:xfrm>
            <a:off x="228600" y="1143000"/>
            <a:ext cx="611496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4-segment Simpson’s 1/3rd Rule to approximate the dist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7" name="Slide Number Placeholder 7"/>
          <p:cNvSpPr/>
          <p:nvPr/>
        </p:nvSpPr>
        <p:spPr>
          <a:xfrm>
            <a:off x="4572000" y="795672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D0420-A382-4A93-8F37-4E710E711B7C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8" name="Text Box 4"/>
          <p:cNvSpPr/>
          <p:nvPr/>
        </p:nvSpPr>
        <p:spPr>
          <a:xfrm>
            <a:off x="685800" y="2133720"/>
            <a:ext cx="52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ed by a rocket from t= 8 to t=30 as given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9" name="Object 5"/>
              <p:cNvSpPr txBox="1"/>
              <p:nvPr/>
            </p:nvSpPr>
            <p:spPr>
              <a:xfrm>
                <a:off x="0" y="3124080"/>
                <a:ext cx="68580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00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1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8C1D0-1AA9-4CCE-97A2-7B4D7468FA6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3" name="Object 56" descr=""/>
          <p:cNvPicPr/>
          <p:nvPr/>
        </p:nvPicPr>
        <p:blipFill>
          <a:blip r:embed="rId1"/>
          <a:stretch/>
        </p:blipFill>
        <p:spPr>
          <a:xfrm>
            <a:off x="1509840" y="1722600"/>
            <a:ext cx="2236680" cy="974520"/>
          </a:xfrm>
          <a:prstGeom prst="rect">
            <a:avLst/>
          </a:prstGeom>
          <a:ln w="0">
            <a:noFill/>
          </a:ln>
        </p:spPr>
      </p:pic>
      <p:pic>
        <p:nvPicPr>
          <p:cNvPr id="1964" name="Object 55" descr=""/>
          <p:cNvPicPr/>
          <p:nvPr/>
        </p:nvPicPr>
        <p:blipFill>
          <a:blip r:embed="rId2"/>
          <a:stretch/>
        </p:blipFill>
        <p:spPr>
          <a:xfrm>
            <a:off x="595440" y="2590920"/>
            <a:ext cx="5271840" cy="1038240"/>
          </a:xfrm>
          <a:prstGeom prst="rect">
            <a:avLst/>
          </a:prstGeom>
          <a:ln w="0">
            <a:noFill/>
          </a:ln>
        </p:spPr>
      </p:pic>
      <p:pic>
        <p:nvPicPr>
          <p:cNvPr id="1965" name="Object 54" descr=""/>
          <p:cNvPicPr/>
          <p:nvPr/>
        </p:nvPicPr>
        <p:blipFill>
          <a:blip r:embed="rId3"/>
          <a:stretch/>
        </p:blipFill>
        <p:spPr>
          <a:xfrm>
            <a:off x="1295280" y="4038480"/>
            <a:ext cx="4572000" cy="1054080"/>
          </a:xfrm>
          <a:prstGeom prst="rect">
            <a:avLst/>
          </a:prstGeom>
          <a:ln w="0">
            <a:noFill/>
          </a:ln>
        </p:spPr>
      </p:pic>
      <p:pic>
        <p:nvPicPr>
          <p:cNvPr id="1966" name="Object 53" descr=""/>
          <p:cNvPicPr/>
          <p:nvPr/>
        </p:nvPicPr>
        <p:blipFill>
          <a:blip r:embed="rId4"/>
          <a:stretch/>
        </p:blipFill>
        <p:spPr>
          <a:xfrm>
            <a:off x="609480" y="5132520"/>
            <a:ext cx="5791320" cy="1116000"/>
          </a:xfrm>
          <a:prstGeom prst="rect">
            <a:avLst/>
          </a:prstGeom>
          <a:ln w="0">
            <a:noFill/>
          </a:ln>
        </p:spPr>
      </p:pic>
      <p:pic>
        <p:nvPicPr>
          <p:cNvPr id="1967" name="Object 52" descr=""/>
          <p:cNvPicPr/>
          <p:nvPr/>
        </p:nvPicPr>
        <p:blipFill>
          <a:blip r:embed="rId5"/>
          <a:stretch/>
        </p:blipFill>
        <p:spPr>
          <a:xfrm>
            <a:off x="1219320" y="6629400"/>
            <a:ext cx="2743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E57F5-7BBD-4DE2-88FA-AFA7456A3F8A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0" name="Rectangle 4"/>
          <p:cNvSpPr/>
          <p:nvPr/>
        </p:nvSpPr>
        <p:spPr>
          <a:xfrm>
            <a:off x="514440" y="3657600"/>
            <a:ext cx="582912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ahoma"/>
              </a:rPr>
              <a:t>Multiple Segment Simpson’s 1/3rd Rul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2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3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914FC-BB61-43A2-B846-456B053EF0E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4" name="Rectangle 343"/>
          <p:cNvSpPr/>
          <p:nvPr/>
        </p:nvSpPr>
        <p:spPr>
          <a:xfrm>
            <a:off x="0" y="1999080"/>
            <a:ext cx="7467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Just like in multiple segment Trapezoidal Rule,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one can subdivide the interval [a, b] into n segments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5" name="Text Box 344"/>
          <p:cNvSpPr/>
          <p:nvPr/>
        </p:nvSpPr>
        <p:spPr>
          <a:xfrm>
            <a:off x="0" y="28195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558ed5"/>
                </a:solidFill>
                <a:latin typeface="Tahoma"/>
              </a:rPr>
              <a:t>Then apply Simpson’s 1/3rd Rule repeatedly over every two segments.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6" name="Text Box 345"/>
          <p:cNvSpPr/>
          <p:nvPr/>
        </p:nvSpPr>
        <p:spPr>
          <a:xfrm>
            <a:off x="0" y="3581280"/>
            <a:ext cx="6400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c00000"/>
                </a:solidFill>
                <a:latin typeface="Tahoma"/>
              </a:rPr>
              <a:t>Note that n needs to be even.  </a:t>
            </a: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Divide interval [a, b] into  equal segments, hence the segment width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7" name="Object 347"/>
              <p:cNvSpPr txBox="1"/>
              <p:nvPr/>
            </p:nvSpPr>
            <p:spPr>
              <a:xfrm>
                <a:off x="914400" y="4419720"/>
                <a:ext cx="14479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8" name="Object 349"/>
              <p:cNvSpPr txBox="1"/>
              <p:nvPr/>
            </p:nvSpPr>
            <p:spPr>
              <a:xfrm>
                <a:off x="609480" y="5410080"/>
                <a:ext cx="3581640" cy="111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979" name="Rectangle 351"/>
          <p:cNvSpPr/>
          <p:nvPr/>
        </p:nvSpPr>
        <p:spPr>
          <a:xfrm>
            <a:off x="207000" y="6869520"/>
            <a:ext cx="8895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0" name="Object 353"/>
              <p:cNvSpPr txBox="1"/>
              <p:nvPr/>
            </p:nvSpPr>
            <p:spPr>
              <a:xfrm>
                <a:off x="1066680" y="6858000"/>
                <a:ext cx="1524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1" name="Object 352"/>
              <p:cNvSpPr txBox="1"/>
              <p:nvPr/>
            </p:nvSpPr>
            <p:spPr>
              <a:xfrm>
                <a:off x="3124080" y="6858000"/>
                <a:ext cx="14479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82" name="Group 76"/>
          <p:cNvGrpSpPr/>
          <p:nvPr/>
        </p:nvGrpSpPr>
        <p:grpSpPr>
          <a:xfrm>
            <a:off x="3809880" y="838080"/>
            <a:ext cx="5429160" cy="4475160"/>
            <a:chOff x="3809880" y="838080"/>
            <a:chExt cx="5429160" cy="4475160"/>
          </a:xfrm>
        </p:grpSpPr>
        <p:sp>
          <p:nvSpPr>
            <p:cNvPr id="1983" name="AutoShape 77"/>
            <p:cNvSpPr/>
            <p:nvPr/>
          </p:nvSpPr>
          <p:spPr>
            <a:xfrm>
              <a:off x="5257440" y="838080"/>
              <a:ext cx="3981600" cy="447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4" name="Text Box 78"/>
            <p:cNvSpPr/>
            <p:nvPr/>
          </p:nvSpPr>
          <p:spPr>
            <a:xfrm>
              <a:off x="3809880" y="1605600"/>
              <a:ext cx="714960" cy="4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5" name="Line 79"/>
            <p:cNvSpPr/>
            <p:nvPr/>
          </p:nvSpPr>
          <p:spPr>
            <a:xfrm flipV="1">
              <a:off x="4325400" y="1605600"/>
              <a:ext cx="0" cy="309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6" name="Line 80"/>
            <p:cNvSpPr/>
            <p:nvPr/>
          </p:nvSpPr>
          <p:spPr>
            <a:xfrm>
              <a:off x="4008240" y="4475160"/>
              <a:ext cx="2987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7" name="Freeform 81"/>
            <p:cNvSpPr/>
            <p:nvPr/>
          </p:nvSpPr>
          <p:spPr>
            <a:xfrm>
              <a:off x="4102200" y="2265840"/>
              <a:ext cx="2623680" cy="1463040"/>
            </a:xfrm>
            <a:custGeom>
              <a:avLst/>
              <a:gdLst>
                <a:gd name="textAreaLeft" fmla="*/ 0 w 2623680"/>
                <a:gd name="textAreaRight" fmla="*/ 2624040 w 2623680"/>
                <a:gd name="textAreaTop" fmla="*/ 0 h 1463040"/>
                <a:gd name="textAreaBottom" fmla="*/ 1463400 h 1463040"/>
              </a:gdLst>
              <a:ahLst/>
              <a:rect l="textAreaLeft" t="textAreaTop" r="textAreaRight" b="textAreaBottom"/>
              <a:pathLst>
                <a:path w="3360" h="1530">
                  <a:moveTo>
                    <a:pt x="0" y="1530"/>
                  </a:moveTo>
                  <a:cubicBezTo>
                    <a:pt x="295" y="1158"/>
                    <a:pt x="590" y="787"/>
                    <a:pt x="870" y="645"/>
                  </a:cubicBezTo>
                  <a:cubicBezTo>
                    <a:pt x="1150" y="503"/>
                    <a:pt x="1430" y="692"/>
                    <a:pt x="1680" y="675"/>
                  </a:cubicBezTo>
                  <a:cubicBezTo>
                    <a:pt x="1930" y="658"/>
                    <a:pt x="2090" y="652"/>
                    <a:pt x="2370" y="540"/>
                  </a:cubicBezTo>
                  <a:cubicBezTo>
                    <a:pt x="2650" y="428"/>
                    <a:pt x="3200" y="90"/>
                    <a:pt x="336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8" name="Line 82"/>
            <p:cNvSpPr/>
            <p:nvPr/>
          </p:nvSpPr>
          <p:spPr>
            <a:xfrm>
              <a:off x="4653000" y="2969280"/>
              <a:ext cx="0" cy="150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89" name="Line 83"/>
            <p:cNvSpPr/>
            <p:nvPr/>
          </p:nvSpPr>
          <p:spPr>
            <a:xfrm>
              <a:off x="5109480" y="2854440"/>
              <a:ext cx="0" cy="162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0" name="Line 84"/>
            <p:cNvSpPr/>
            <p:nvPr/>
          </p:nvSpPr>
          <p:spPr>
            <a:xfrm>
              <a:off x="6491880" y="2423880"/>
              <a:ext cx="0" cy="20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1" name="Line 85"/>
            <p:cNvSpPr/>
            <p:nvPr/>
          </p:nvSpPr>
          <p:spPr>
            <a:xfrm>
              <a:off x="6058800" y="2724840"/>
              <a:ext cx="0" cy="175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2" name="Text Box 86"/>
            <p:cNvSpPr/>
            <p:nvPr/>
          </p:nvSpPr>
          <p:spPr>
            <a:xfrm>
              <a:off x="5203080" y="3212640"/>
              <a:ext cx="855720" cy="445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.  .  .</a:t>
              </a:r>
              <a:endParaRPr b="0" lang="en-US" sz="1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3" name="Text Box 87"/>
            <p:cNvSpPr/>
            <p:nvPr/>
          </p:nvSpPr>
          <p:spPr>
            <a:xfrm>
              <a:off x="4442400" y="4561200"/>
              <a:ext cx="50292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4" name="Text Box 88"/>
            <p:cNvSpPr/>
            <p:nvPr/>
          </p:nvSpPr>
          <p:spPr>
            <a:xfrm>
              <a:off x="4945680" y="4561200"/>
              <a:ext cx="50400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5" name="Text Box 89"/>
            <p:cNvSpPr/>
            <p:nvPr/>
          </p:nvSpPr>
          <p:spPr>
            <a:xfrm>
              <a:off x="5776560" y="4561200"/>
              <a:ext cx="50400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n-2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6" name="Text Box 90"/>
            <p:cNvSpPr/>
            <p:nvPr/>
          </p:nvSpPr>
          <p:spPr>
            <a:xfrm>
              <a:off x="6280920" y="4561200"/>
              <a:ext cx="502920" cy="573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r>
                <a:rPr b="0" i="1" lang="en-US" sz="1200" spc="-1" strike="noStrike" baseline="-25000">
                  <a:solidFill>
                    <a:srgbClr val="000000"/>
                  </a:solidFill>
                  <a:latin typeface="Tahoma"/>
                </a:rPr>
                <a:t>n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997" name="Text Box 91"/>
            <p:cNvSpPr/>
            <p:nvPr/>
          </p:nvSpPr>
          <p:spPr>
            <a:xfrm>
              <a:off x="6912720" y="3943800"/>
              <a:ext cx="386640" cy="43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213AA-F5F0-4A3F-A0FC-88375F22783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1" name="Rectangle 52"/>
          <p:cNvSpPr/>
          <p:nvPr/>
        </p:nvSpPr>
        <p:spPr>
          <a:xfrm>
            <a:off x="-101520" y="4877280"/>
            <a:ext cx="53942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pply Simpson’s 1/3rd Rule over each interval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2" name="Object 53"/>
              <p:cNvSpPr txBox="1"/>
              <p:nvPr/>
            </p:nvSpPr>
            <p:spPr>
              <a:xfrm>
                <a:off x="0" y="5410080"/>
                <a:ext cx="632448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3" name="Object 55"/>
              <p:cNvSpPr txBox="1"/>
              <p:nvPr/>
            </p:nvSpPr>
            <p:spPr>
              <a:xfrm>
                <a:off x="304920" y="6553080"/>
                <a:ext cx="487656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4" name="Object 92"/>
              <p:cNvSpPr txBox="1"/>
              <p:nvPr/>
            </p:nvSpPr>
            <p:spPr>
              <a:xfrm>
                <a:off x="0" y="1600200"/>
                <a:ext cx="594360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05" name="Object 94"/>
              <p:cNvSpPr txBox="1"/>
              <p:nvPr/>
            </p:nvSpPr>
            <p:spPr>
              <a:xfrm>
                <a:off x="304920" y="2743200"/>
                <a:ext cx="3809880" cy="111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</m:naryPr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006" name="TextBox 25"/>
          <p:cNvSpPr/>
          <p:nvPr/>
        </p:nvSpPr>
        <p:spPr>
          <a:xfrm rot="20012400">
            <a:off x="959400" y="6132600"/>
            <a:ext cx="41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/>
                                        <p:tgtEl>
                                          <p:spTgt spid="20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0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6EFE2-C09E-4858-9CC5-A0D9D4B4AAA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0" name="Object 35"/>
              <p:cNvSpPr txBox="1"/>
              <p:nvPr/>
            </p:nvSpPr>
            <p:spPr>
              <a:xfrm>
                <a:off x="457200" y="1828800"/>
                <a:ext cx="640080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1" name="Object 37"/>
              <p:cNvSpPr txBox="1"/>
              <p:nvPr/>
            </p:nvSpPr>
            <p:spPr>
              <a:xfrm>
                <a:off x="762120" y="2971800"/>
                <a:ext cx="56386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12" name="Rectangle 39"/>
          <p:cNvSpPr/>
          <p:nvPr/>
        </p:nvSpPr>
        <p:spPr>
          <a:xfrm>
            <a:off x="522360" y="4343760"/>
            <a:ext cx="7765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i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3" name="Object 41"/>
              <p:cNvSpPr txBox="1"/>
              <p:nvPr/>
            </p:nvSpPr>
            <p:spPr>
              <a:xfrm>
                <a:off x="1600200" y="4876920"/>
                <a:ext cx="21337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4" name="Object 40"/>
              <p:cNvSpPr txBox="1"/>
              <p:nvPr/>
            </p:nvSpPr>
            <p:spPr>
              <a:xfrm>
                <a:off x="4191120" y="4876920"/>
                <a:ext cx="220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4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15" name="TextBox 9"/>
          <p:cNvSpPr/>
          <p:nvPr/>
        </p:nvSpPr>
        <p:spPr>
          <a:xfrm rot="20012400">
            <a:off x="1340280" y="2627280"/>
            <a:ext cx="411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20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6" dur="1000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2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7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8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634B3-3C1F-4E12-BF86-D46E581872C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9" name="Rectangle 13"/>
          <p:cNvSpPr/>
          <p:nvPr/>
        </p:nvSpPr>
        <p:spPr>
          <a:xfrm>
            <a:off x="523440" y="1600560"/>
            <a:ext cx="74916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0" name="Object 22"/>
              <p:cNvSpPr txBox="1"/>
              <p:nvPr/>
            </p:nvSpPr>
            <p:spPr>
              <a:xfrm>
                <a:off x="380880" y="2133720"/>
                <a:ext cx="59436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1" name="Object 24"/>
              <p:cNvSpPr txBox="1"/>
              <p:nvPr/>
            </p:nvSpPr>
            <p:spPr>
              <a:xfrm>
                <a:off x="838080" y="3352680"/>
                <a:ext cx="52578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2" name="Object 26"/>
              <p:cNvSpPr txBox="1"/>
              <p:nvPr/>
            </p:nvSpPr>
            <p:spPr>
              <a:xfrm>
                <a:off x="914400" y="4648320"/>
                <a:ext cx="5257800" cy="104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4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3" name="Object 28"/>
              <p:cNvSpPr txBox="1"/>
              <p:nvPr/>
            </p:nvSpPr>
            <p:spPr>
              <a:xfrm>
                <a:off x="1066680" y="5867280"/>
                <a:ext cx="51055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h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5F22A-1A19-4D79-B84A-BA4A3D23A04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7" name="Object 235"/>
              <p:cNvSpPr txBox="1"/>
              <p:nvPr/>
            </p:nvSpPr>
            <p:spPr>
              <a:xfrm>
                <a:off x="304920" y="1752480"/>
                <a:ext cx="1371600" cy="1049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8" name="Object 239"/>
              <p:cNvSpPr txBox="1"/>
              <p:nvPr/>
            </p:nvSpPr>
            <p:spPr>
              <a:xfrm>
                <a:off x="1600200" y="1752480"/>
                <a:ext cx="495288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29" name="Object 241"/>
              <p:cNvSpPr txBox="1"/>
              <p:nvPr/>
            </p:nvSpPr>
            <p:spPr>
              <a:xfrm>
                <a:off x="1371600" y="2819520"/>
                <a:ext cx="5257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2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]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0" name="Object 243"/>
              <p:cNvSpPr txBox="1"/>
              <p:nvPr/>
            </p:nvSpPr>
            <p:spPr>
              <a:xfrm>
                <a:off x="609480" y="3505320"/>
                <a:ext cx="579132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1" name="Object 245"/>
              <p:cNvSpPr txBox="1"/>
              <p:nvPr/>
            </p:nvSpPr>
            <p:spPr>
              <a:xfrm>
                <a:off x="762120" y="5562720"/>
                <a:ext cx="571500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title"/>
          </p:nvPr>
        </p:nvSpPr>
        <p:spPr>
          <a:xfrm>
            <a:off x="863640" y="1599840"/>
            <a:ext cx="5844960" cy="74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What is Integration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26" name="Object 121"/>
              <p:cNvSpPr txBox="1"/>
              <p:nvPr/>
            </p:nvSpPr>
            <p:spPr>
              <a:xfrm>
                <a:off x="0" y="4400640"/>
                <a:ext cx="243828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27" name="PlaceHolder 2"/>
          <p:cNvSpPr>
            <a:spLocks noGrp="1"/>
          </p:cNvSpPr>
          <p:nvPr>
            <p:ph/>
          </p:nvPr>
        </p:nvSpPr>
        <p:spPr>
          <a:xfrm>
            <a:off x="228600" y="2641680"/>
            <a:ext cx="2286000" cy="63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en-US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Integration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8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9" name="Slide Number Placeholder 6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9CF46-CDE7-4A75-95BC-07F0AE93C1D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0" name="Rectangle 123"/>
          <p:cNvSpPr/>
          <p:nvPr/>
        </p:nvSpPr>
        <p:spPr>
          <a:xfrm>
            <a:off x="171360" y="3352680"/>
            <a:ext cx="2457720" cy="9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 process of measuring the area under a curve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1" name="Text Box 124"/>
          <p:cNvSpPr/>
          <p:nvPr/>
        </p:nvSpPr>
        <p:spPr>
          <a:xfrm>
            <a:off x="228600" y="6197760"/>
            <a:ext cx="257184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ere: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Tahoma"/>
              </a:rPr>
              <a:t>f(x)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is the integrand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a= lower limit of integ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b= upper limit of integratio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2" name="Line 330"/>
          <p:cNvSpPr/>
          <p:nvPr/>
        </p:nvSpPr>
        <p:spPr>
          <a:xfrm>
            <a:off x="3544920" y="76820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3" name="Line 331"/>
          <p:cNvSpPr/>
          <p:nvPr/>
        </p:nvSpPr>
        <p:spPr>
          <a:xfrm>
            <a:off x="5413320" y="7682040"/>
            <a:ext cx="0" cy="136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34" name="Group 334"/>
          <p:cNvGrpSpPr/>
          <p:nvPr/>
        </p:nvGrpSpPr>
        <p:grpSpPr>
          <a:xfrm>
            <a:off x="2846520" y="5189400"/>
            <a:ext cx="698400" cy="2492640"/>
            <a:chOff x="2846520" y="5189400"/>
            <a:chExt cx="698400" cy="2492640"/>
          </a:xfrm>
        </p:grpSpPr>
        <p:sp>
          <p:nvSpPr>
            <p:cNvPr id="1835" name="Line 335"/>
            <p:cNvSpPr/>
            <p:nvPr/>
          </p:nvSpPr>
          <p:spPr>
            <a:xfrm>
              <a:off x="2846520" y="7681320"/>
              <a:ext cx="69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6" name="Freeform 336"/>
            <p:cNvSpPr/>
            <p:nvPr/>
          </p:nvSpPr>
          <p:spPr>
            <a:xfrm>
              <a:off x="3538080" y="5189400"/>
              <a:ext cx="5760" cy="2492640"/>
            </a:xfrm>
            <a:custGeom>
              <a:avLst/>
              <a:gdLst>
                <a:gd name="textAreaLeft" fmla="*/ 0 w 5760"/>
                <a:gd name="textAreaRight" fmla="*/ 6120 w 5760"/>
                <a:gd name="textAreaTop" fmla="*/ 0 h 2492640"/>
                <a:gd name="textAreaBottom" fmla="*/ 2493000 h 2492640"/>
              </a:gdLst>
              <a:ahLst/>
              <a:rect l="textAreaLeft" t="textAreaTop" r="textAreaRight" b="textAreaBottom"/>
              <a:pathLst>
                <a:path w="14" h="3271">
                  <a:moveTo>
                    <a:pt x="14" y="3271"/>
                  </a:move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grpSp>
        <p:nvGrpSpPr>
          <p:cNvPr id="1837" name="Group 376"/>
          <p:cNvGrpSpPr/>
          <p:nvPr/>
        </p:nvGrpSpPr>
        <p:grpSpPr>
          <a:xfrm>
            <a:off x="2457360" y="3017880"/>
            <a:ext cx="3985200" cy="5211360"/>
            <a:chOff x="2457360" y="3017880"/>
            <a:chExt cx="3985200" cy="5211360"/>
          </a:xfrm>
        </p:grpSpPr>
        <p:sp>
          <p:nvSpPr>
            <p:cNvPr id="1838" name="Line 339"/>
            <p:cNvSpPr/>
            <p:nvPr/>
          </p:nvSpPr>
          <p:spPr>
            <a:xfrm flipV="1">
              <a:off x="2845440" y="3290400"/>
              <a:ext cx="0" cy="439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39" name="Freeform 340"/>
            <p:cNvSpPr/>
            <p:nvPr/>
          </p:nvSpPr>
          <p:spPr>
            <a:xfrm>
              <a:off x="3156120" y="4033800"/>
              <a:ext cx="2543760" cy="3647160"/>
            </a:xfrm>
            <a:custGeom>
              <a:avLst/>
              <a:gdLst>
                <a:gd name="textAreaLeft" fmla="*/ 0 w 2543760"/>
                <a:gd name="textAreaRight" fmla="*/ 2543760 w 2543760"/>
                <a:gd name="textAreaTop" fmla="*/ 0 h 3647160"/>
                <a:gd name="textAreaBottom" fmla="*/ 3647520 h 3647160"/>
              </a:gdLst>
              <a:ahLst/>
              <a:rect l="textAreaLeft" t="textAreaTop" r="textAreaRight" b="textAreaBottom"/>
              <a:pathLst>
                <a:path w="5897" h="4785">
                  <a:moveTo>
                    <a:pt x="0" y="4785"/>
                  </a:moveTo>
                  <a:cubicBezTo>
                    <a:pt x="145" y="4243"/>
                    <a:pt x="247" y="2057"/>
                    <a:pt x="872" y="1530"/>
                  </a:cubicBezTo>
                  <a:cubicBezTo>
                    <a:pt x="1497" y="1003"/>
                    <a:pt x="2915" y="1875"/>
                    <a:pt x="3752" y="1620"/>
                  </a:cubicBezTo>
                  <a:cubicBezTo>
                    <a:pt x="4589" y="1365"/>
                    <a:pt x="5450" y="337"/>
                    <a:pt x="5897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0" name="Line 341"/>
            <p:cNvSpPr/>
            <p:nvPr/>
          </p:nvSpPr>
          <p:spPr>
            <a:xfrm>
              <a:off x="5129640" y="3553560"/>
              <a:ext cx="388080" cy="82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1" name="Text Box 342"/>
            <p:cNvSpPr/>
            <p:nvPr/>
          </p:nvSpPr>
          <p:spPr>
            <a:xfrm>
              <a:off x="5181840" y="3200040"/>
              <a:ext cx="838440" cy="51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f(x)</a:t>
              </a:r>
              <a:endParaRPr b="0" lang="en-US" sz="20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2" name="Text Box 343"/>
            <p:cNvSpPr/>
            <p:nvPr/>
          </p:nvSpPr>
          <p:spPr>
            <a:xfrm>
              <a:off x="3467160" y="7818840"/>
              <a:ext cx="23220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3" name="Text Box 344"/>
            <p:cNvSpPr/>
            <p:nvPr/>
          </p:nvSpPr>
          <p:spPr>
            <a:xfrm>
              <a:off x="5330880" y="7818840"/>
              <a:ext cx="232200" cy="41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4" name="Text Box 346"/>
            <p:cNvSpPr/>
            <p:nvPr/>
          </p:nvSpPr>
          <p:spPr>
            <a:xfrm>
              <a:off x="2457360" y="3290760"/>
              <a:ext cx="23328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5" name="Text Box 347"/>
            <p:cNvSpPr/>
            <p:nvPr/>
          </p:nvSpPr>
          <p:spPr>
            <a:xfrm>
              <a:off x="6188760" y="7818840"/>
              <a:ext cx="253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2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6" name="Rectangle 348"/>
            <p:cNvSpPr/>
            <p:nvPr/>
          </p:nvSpPr>
          <p:spPr>
            <a:xfrm>
              <a:off x="3156120" y="3017880"/>
              <a:ext cx="232200" cy="135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47" name="Line 349"/>
            <p:cNvSpPr/>
            <p:nvPr/>
          </p:nvSpPr>
          <p:spPr>
            <a:xfrm>
              <a:off x="5408280" y="7680960"/>
              <a:ext cx="892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1848" name="Group 350"/>
            <p:cNvGrpSpPr/>
            <p:nvPr/>
          </p:nvGrpSpPr>
          <p:grpSpPr>
            <a:xfrm>
              <a:off x="3544560" y="4503960"/>
              <a:ext cx="1880280" cy="3176640"/>
              <a:chOff x="3544560" y="4503960"/>
              <a:chExt cx="1880280" cy="3176640"/>
            </a:xfrm>
          </p:grpSpPr>
          <p:grpSp>
            <p:nvGrpSpPr>
              <p:cNvPr id="1849" name="Group 351"/>
              <p:cNvGrpSpPr/>
              <p:nvPr/>
            </p:nvGrpSpPr>
            <p:grpSpPr>
              <a:xfrm>
                <a:off x="3544560" y="4726080"/>
                <a:ext cx="1880280" cy="2954520"/>
                <a:chOff x="3544560" y="4726080"/>
                <a:chExt cx="1880280" cy="2954520"/>
              </a:xfrm>
            </p:grpSpPr>
            <p:grpSp>
              <p:nvGrpSpPr>
                <p:cNvPr id="1850" name="Group 352"/>
                <p:cNvGrpSpPr/>
                <p:nvPr/>
              </p:nvGrpSpPr>
              <p:grpSpPr>
                <a:xfrm>
                  <a:off x="3544560" y="4726080"/>
                  <a:ext cx="1880280" cy="2954520"/>
                  <a:chOff x="3544560" y="4726080"/>
                  <a:chExt cx="1880280" cy="2954520"/>
                </a:xfrm>
              </p:grpSpPr>
              <p:grpSp>
                <p:nvGrpSpPr>
                  <p:cNvPr id="1851" name="Group 353"/>
                  <p:cNvGrpSpPr/>
                  <p:nvPr/>
                </p:nvGrpSpPr>
                <p:grpSpPr>
                  <a:xfrm>
                    <a:off x="3544560" y="4726080"/>
                    <a:ext cx="1880280" cy="2954520"/>
                    <a:chOff x="3544560" y="4726080"/>
                    <a:chExt cx="1880280" cy="2954520"/>
                  </a:xfrm>
                </p:grpSpPr>
                <p:grpSp>
                  <p:nvGrpSpPr>
                    <p:cNvPr id="1852" name="Group 354"/>
                    <p:cNvGrpSpPr/>
                    <p:nvPr/>
                  </p:nvGrpSpPr>
                  <p:grpSpPr>
                    <a:xfrm>
                      <a:off x="3544560" y="4726080"/>
                      <a:ext cx="1880280" cy="2954520"/>
                      <a:chOff x="3544560" y="4726080"/>
                      <a:chExt cx="1880280" cy="2954520"/>
                    </a:xfrm>
                  </p:grpSpPr>
                  <p:grpSp>
                    <p:nvGrpSpPr>
                      <p:cNvPr id="1853" name="Group 355"/>
                      <p:cNvGrpSpPr/>
                      <p:nvPr/>
                    </p:nvGrpSpPr>
                    <p:grpSpPr>
                      <a:xfrm>
                        <a:off x="3544560" y="4743720"/>
                        <a:ext cx="1870200" cy="2936880"/>
                        <a:chOff x="3544560" y="4743720"/>
                        <a:chExt cx="1870200" cy="2936880"/>
                      </a:xfrm>
                    </p:grpSpPr>
                    <p:grpSp>
                      <p:nvGrpSpPr>
                        <p:cNvPr id="1854" name="Group 356"/>
                        <p:cNvGrpSpPr/>
                        <p:nvPr/>
                      </p:nvGrpSpPr>
                      <p:grpSpPr>
                        <a:xfrm>
                          <a:off x="3544560" y="4743720"/>
                          <a:ext cx="1870200" cy="2936880"/>
                          <a:chOff x="3544560" y="4743720"/>
                          <a:chExt cx="1870200" cy="2936880"/>
                        </a:xfrm>
                      </p:grpSpPr>
                      <p:sp>
                        <p:nvSpPr>
                          <p:cNvPr id="1855" name="Rectangle 357"/>
                          <p:cNvSpPr/>
                          <p:nvPr/>
                        </p:nvSpPr>
                        <p:spPr>
                          <a:xfrm>
                            <a:off x="3544560" y="5189400"/>
                            <a:ext cx="660240" cy="2491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6" name="Rectangle 358"/>
                          <p:cNvSpPr/>
                          <p:nvPr/>
                        </p:nvSpPr>
                        <p:spPr>
                          <a:xfrm>
                            <a:off x="4612680" y="5315040"/>
                            <a:ext cx="801720" cy="2365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7" name="Rectangle 359"/>
                          <p:cNvSpPr/>
                          <p:nvPr/>
                        </p:nvSpPr>
                        <p:spPr>
                          <a:xfrm>
                            <a:off x="4204800" y="5315040"/>
                            <a:ext cx="407520" cy="236520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8" name="Rectangle 360"/>
                          <p:cNvSpPr/>
                          <p:nvPr/>
                        </p:nvSpPr>
                        <p:spPr>
                          <a:xfrm>
                            <a:off x="5263560" y="4743720"/>
                            <a:ext cx="151200" cy="5713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  <p:sp>
                        <p:nvSpPr>
                          <p:cNvPr id="1859" name="Rectangle 361"/>
                          <p:cNvSpPr/>
                          <p:nvPr/>
                        </p:nvSpPr>
                        <p:spPr>
                          <a:xfrm>
                            <a:off x="5072400" y="5006520"/>
                            <a:ext cx="191160" cy="308520"/>
                          </a:xfrm>
                          <a:prstGeom prst="rect">
                            <a:avLst/>
                          </a:prstGeom>
                          <a:solidFill>
                            <a:srgbClr val="000000"/>
                          </a:solidFill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 algn="ctr"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ahoma"/>
                            </a:endParaRPr>
                          </a:p>
                        </p:txBody>
                      </p:sp>
                    </p:grpSp>
                    <p:sp>
                      <p:nvSpPr>
                        <p:cNvPr id="1860" name="AutoShape 362"/>
                        <p:cNvSpPr/>
                        <p:nvPr/>
                      </p:nvSpPr>
                      <p:spPr>
                        <a:xfrm>
                          <a:off x="4204800" y="5189400"/>
                          <a:ext cx="342720" cy="125640"/>
                        </a:xfrm>
                        <a:prstGeom prst="rtTriangle">
                          <a:avLst/>
                        </a:prstGeom>
                        <a:solidFill>
                          <a:srgbClr val="000000"/>
                        </a:solidFill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5760" bIns="-5760" anchor="t">
                          <a:noAutofit/>
                        </a:bodyPr>
                        <a:p>
                          <a:pPr algn="ctr"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ahoma"/>
                          </a:endParaRPr>
                        </a:p>
                      </p:txBody>
                    </p:sp>
                  </p:grpSp>
                  <p:sp>
                    <p:nvSpPr>
                      <p:cNvPr id="1861" name="AutoShape 363"/>
                      <p:cNvSpPr/>
                      <p:nvPr/>
                    </p:nvSpPr>
                    <p:spPr>
                      <a:xfrm rot="8491800">
                        <a:off x="4879080" y="4888800"/>
                        <a:ext cx="567720" cy="126360"/>
                      </a:xfrm>
                      <a:prstGeom prst="rtTriangle">
                        <a:avLst/>
                      </a:prstGeom>
                      <a:solidFill>
                        <a:srgbClr val="00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5400" bIns="-5400" anchor="t">
                        <a:noAutofit/>
                      </a:bodyPr>
                      <a:p>
                        <a:pPr algn="ctr"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ahoma"/>
                        </a:endParaRPr>
                      </a:p>
                    </p:txBody>
                  </p:sp>
                </p:grpSp>
                <p:sp>
                  <p:nvSpPr>
                    <p:cNvPr id="1862" name="AutoShape 364"/>
                    <p:cNvSpPr/>
                    <p:nvPr/>
                  </p:nvSpPr>
                  <p:spPr>
                    <a:xfrm rot="9192600">
                      <a:off x="4678200" y="5190480"/>
                      <a:ext cx="448920" cy="336600"/>
                    </a:xfrm>
                    <a:prstGeom prst="rtTriangl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p:txBody>
                </p:sp>
              </p:grpSp>
              <p:sp>
                <p:nvSpPr>
                  <p:cNvPr id="1863" name="AutoShape 365"/>
                  <p:cNvSpPr/>
                  <p:nvPr/>
                </p:nvSpPr>
                <p:spPr>
                  <a:xfrm rot="10263600">
                    <a:off x="3853800" y="5390280"/>
                    <a:ext cx="1024920" cy="108720"/>
                  </a:xfrm>
                  <a:prstGeom prst="rtTriangl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ahoma"/>
                    </a:endParaRPr>
                  </a:p>
                </p:txBody>
              </p:sp>
            </p:grpSp>
            <p:sp>
              <p:nvSpPr>
                <p:cNvPr id="1864" name="AutoShape 366"/>
                <p:cNvSpPr/>
                <p:nvPr/>
              </p:nvSpPr>
              <p:spPr>
                <a:xfrm rot="9040200">
                  <a:off x="5091840" y="4905360"/>
                  <a:ext cx="206640" cy="299880"/>
                </a:xfrm>
                <a:prstGeom prst="rtTriangl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865" name="AutoShape 367"/>
              <p:cNvSpPr/>
              <p:nvPr/>
            </p:nvSpPr>
            <p:spPr>
              <a:xfrm flipH="1">
                <a:off x="5213520" y="4503960"/>
                <a:ext cx="200520" cy="3196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grpSp>
        <p:nvGrpSpPr>
          <p:cNvPr id="1866" name="Group 368"/>
          <p:cNvGrpSpPr/>
          <p:nvPr/>
        </p:nvGrpSpPr>
        <p:grpSpPr>
          <a:xfrm>
            <a:off x="3536280" y="5086440"/>
            <a:ext cx="668520" cy="412560"/>
            <a:chOff x="3536280" y="5086440"/>
            <a:chExt cx="668520" cy="412560"/>
          </a:xfrm>
        </p:grpSpPr>
        <p:sp>
          <p:nvSpPr>
            <p:cNvPr id="1867" name="Rectangle 369"/>
            <p:cNvSpPr/>
            <p:nvPr/>
          </p:nvSpPr>
          <p:spPr>
            <a:xfrm>
              <a:off x="3699720" y="5086440"/>
              <a:ext cx="213480" cy="412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8" name="AutoShape 370"/>
            <p:cNvSpPr/>
            <p:nvPr/>
          </p:nvSpPr>
          <p:spPr>
            <a:xfrm>
              <a:off x="3913200" y="5086440"/>
              <a:ext cx="291600" cy="11916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69" name="AutoShape 371"/>
            <p:cNvSpPr/>
            <p:nvPr/>
          </p:nvSpPr>
          <p:spPr>
            <a:xfrm rot="9682200">
              <a:off x="3560760" y="5127120"/>
              <a:ext cx="198720" cy="1872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870" name="Line 372"/>
            <p:cNvSpPr/>
            <p:nvPr/>
          </p:nvSpPr>
          <p:spPr>
            <a:xfrm flipV="1">
              <a:off x="3560760" y="5087160"/>
              <a:ext cx="138960" cy="1026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1871" name="Freeform 373"/>
          <p:cNvSpPr/>
          <p:nvPr/>
        </p:nvSpPr>
        <p:spPr>
          <a:xfrm>
            <a:off x="3543480" y="5100480"/>
            <a:ext cx="120600" cy="106560"/>
          </a:xfrm>
          <a:custGeom>
            <a:avLst/>
            <a:gdLst>
              <a:gd name="textAreaLeft" fmla="*/ 0 w 120600"/>
              <a:gd name="textAreaRight" fmla="*/ 120960 w 120600"/>
              <a:gd name="textAreaTop" fmla="*/ 0 h 106560"/>
              <a:gd name="textAreaBottom" fmla="*/ 106920 h 106560"/>
            </a:gdLst>
            <a:ahLst/>
            <a:rect l="textAreaLeft" t="textAreaTop" r="textAreaRight" b="textAreaBottom"/>
            <a:pathLst>
              <a:path w="279" h="137">
                <a:moveTo>
                  <a:pt x="0" y="137"/>
                </a:moveTo>
                <a:cubicBezTo>
                  <a:pt x="34" y="107"/>
                  <a:pt x="68" y="77"/>
                  <a:pt x="114" y="54"/>
                </a:cubicBezTo>
                <a:cubicBezTo>
                  <a:pt x="160" y="31"/>
                  <a:pt x="249" y="0"/>
                  <a:pt x="279" y="0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72" name="Object 374"/>
              <p:cNvSpPr txBox="1"/>
              <p:nvPr/>
            </p:nvSpPr>
            <p:spPr>
              <a:xfrm>
                <a:off x="3657600" y="2057400"/>
                <a:ext cx="1847880" cy="165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873" name="Rectangle 2"/>
          <p:cNvSpPr/>
          <p:nvPr/>
        </p:nvSpPr>
        <p:spPr>
          <a:xfrm>
            <a:off x="457200" y="457200"/>
            <a:ext cx="584532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REVIEW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Rectangle 7"/>
          <p:cNvSpPr/>
          <p:nvPr/>
        </p:nvSpPr>
        <p:spPr>
          <a:xfrm>
            <a:off x="0" y="5029200"/>
            <a:ext cx="611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our segment Simpson’s 1/3rd Rule to find the approximate value  of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52020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Example 2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6858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se 4-segment Simpson’s 1/3rd Rule to approximate the distance covered by a rocket from t= 8 to t=30 as given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5" name="Footer Placeholder 6"/>
          <p:cNvSpPr/>
          <p:nvPr/>
        </p:nvSpPr>
        <p:spPr>
          <a:xfrm>
            <a:off x="2000160" y="7651800"/>
            <a:ext cx="217188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4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6" name="Slide Number Placeholder 7"/>
          <p:cNvSpPr/>
          <p:nvPr/>
        </p:nvSpPr>
        <p:spPr>
          <a:xfrm>
            <a:off x="4572000" y="765180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A288-07A0-4A70-ADD4-73A615F12520}" type="slidenum">
              <a:rPr b="0" lang="en-US" sz="14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37" name="Object 5"/>
              <p:cNvSpPr txBox="1"/>
              <p:nvPr/>
            </p:nvSpPr>
            <p:spPr>
              <a:xfrm>
                <a:off x="228600" y="2743200"/>
                <a:ext cx="6629400" cy="125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8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00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f>
                                  <m:num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40000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2100</m:t>
                                    </m:r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r>
                              <m:t xml:space="preserve">9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8</m:t>
                            </m:r>
                            <m:r>
                              <m:t xml:space="preserve">t</m:t>
                            </m:r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3FAD-1F26-4B7B-B340-94DBF26E9334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1" name="Rectangle 4"/>
          <p:cNvSpPr/>
          <p:nvPr/>
        </p:nvSpPr>
        <p:spPr>
          <a:xfrm>
            <a:off x="1200960" y="1371960"/>
            <a:ext cx="4600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Using n segment Simpson’s 1/3rd Rule,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042" name="Group 9"/>
          <p:cNvGrpSpPr/>
          <p:nvPr/>
        </p:nvGrpSpPr>
        <p:grpSpPr>
          <a:xfrm>
            <a:off x="914400" y="1981080"/>
            <a:ext cx="3200040" cy="964800"/>
            <a:chOff x="914400" y="1981080"/>
            <a:chExt cx="3200040" cy="964800"/>
          </a:xfrm>
        </p:grpSpPr>
        <mc:AlternateContent>
          <mc:Choice xmlns:a14="http://schemas.microsoft.com/office/drawing/2010/main" Requires="a14">
            <p:sp>
              <p:nvSpPr>
                <p:cNvPr id="2043" name="Object 6"/>
                <p:cNvSpPr txBox="1"/>
                <p:nvPr/>
              </p:nvSpPr>
              <p:spPr>
                <a:xfrm>
                  <a:off x="914400" y="1981080"/>
                  <a:ext cx="1946880" cy="964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h</m:t>
                      </m:r>
                      <m:r>
                        <m:t xml:space="preserve">=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30</m:t>
                          </m:r>
                          <m:r>
                            <m:t xml:space="preserve">−</m:t>
                          </m:r>
                          <m:r>
                            <m:t xml:space="preserve">8</m:t>
                          </m:r>
                        </m:num>
                        <m:den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44" name="Object 5"/>
                <p:cNvSpPr txBox="1"/>
                <p:nvPr/>
              </p:nvSpPr>
              <p:spPr>
                <a:xfrm>
                  <a:off x="3087720" y="2285640"/>
                  <a:ext cx="1026720" cy="368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5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5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2045" name="Object 19"/>
              <p:cNvSpPr txBox="1"/>
              <p:nvPr/>
            </p:nvSpPr>
            <p:spPr>
              <a:xfrm>
                <a:off x="1066680" y="3124080"/>
                <a:ext cx="25146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6" name="Object 18"/>
              <p:cNvSpPr txBox="1"/>
              <p:nvPr/>
            </p:nvSpPr>
            <p:spPr>
              <a:xfrm>
                <a:off x="1066680" y="3733920"/>
                <a:ext cx="274320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8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7" name="Object 17"/>
              <p:cNvSpPr txBox="1"/>
              <p:nvPr/>
            </p:nvSpPr>
            <p:spPr>
              <a:xfrm>
                <a:off x="3886200" y="3809880"/>
                <a:ext cx="18288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8" name="Object 16"/>
              <p:cNvSpPr txBox="1"/>
              <p:nvPr/>
            </p:nvSpPr>
            <p:spPr>
              <a:xfrm>
                <a:off x="990720" y="4572000"/>
                <a:ext cx="3047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3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9" name="Object 15"/>
              <p:cNvSpPr txBox="1"/>
              <p:nvPr/>
            </p:nvSpPr>
            <p:spPr>
              <a:xfrm>
                <a:off x="4267080" y="4648320"/>
                <a:ext cx="15242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0" name="Object 14"/>
              <p:cNvSpPr txBox="1"/>
              <p:nvPr/>
            </p:nvSpPr>
            <p:spPr>
              <a:xfrm>
                <a:off x="1066680" y="5105520"/>
                <a:ext cx="29718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19</m:t>
                    </m:r>
                    <m:r>
                      <m:t xml:space="preserve">+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1" name="Object 13"/>
              <p:cNvSpPr txBox="1"/>
              <p:nvPr/>
            </p:nvSpPr>
            <p:spPr>
              <a:xfrm>
                <a:off x="4191120" y="5105520"/>
                <a:ext cx="1752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2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2" name="Object 12"/>
              <p:cNvSpPr txBox="1"/>
              <p:nvPr/>
            </p:nvSpPr>
            <p:spPr>
              <a:xfrm>
                <a:off x="1219320" y="5638680"/>
                <a:ext cx="1143000" cy="5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3" name="Object 11"/>
              <p:cNvSpPr txBox="1"/>
              <p:nvPr/>
            </p:nvSpPr>
            <p:spPr>
              <a:xfrm>
                <a:off x="2286000" y="5715000"/>
                <a:ext cx="19810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0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0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20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2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6" dur="500"/>
                                        <p:tgtEl>
                                          <p:spTgt spid="20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2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9C83B-3AFE-4E0E-B3CF-F45FA4C0F8B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7" name="Object 9"/>
              <p:cNvSpPr txBox="1"/>
              <p:nvPr/>
            </p:nvSpPr>
            <p:spPr>
              <a:xfrm>
                <a:off x="399960" y="2540160"/>
                <a:ext cx="577224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lim>
                    </m:limLow>
                    <m:r>
                      <m:t xml:space="preserve">+</m:t>
                    </m:r>
                    <m:r>
                      <m:t xml:space="preserve">f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8" name="Object 8"/>
              <p:cNvSpPr txBox="1"/>
              <p:nvPr/>
            </p:nvSpPr>
            <p:spPr>
              <a:xfrm>
                <a:off x="514440" y="4368960"/>
                <a:ext cx="5886360" cy="16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even</m:t>
                    </m:r>
                    <m:limLow>
                      <m:e/>
                      <m:lim>
                        <m:r>
                          <m:t xml:space="preserve">2</m:t>
                        </m:r>
                      </m:lim>
                    </m:limLow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59" name="Object 7"/>
              <p:cNvSpPr txBox="1"/>
              <p:nvPr/>
            </p:nvSpPr>
            <p:spPr>
              <a:xfrm>
                <a:off x="514440" y="6730920"/>
                <a:ext cx="57340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2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cxnSp>
        <p:nvCxnSpPr>
          <p:cNvPr id="2060" name="Straight Arrow Connector 8"/>
          <p:cNvCxnSpPr/>
          <p:nvPr/>
        </p:nvCxnSpPr>
        <p:spPr>
          <a:xfrm flipH="1">
            <a:off x="2666160" y="5638320"/>
            <a:ext cx="305640" cy="122004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  <p:cxnSp>
        <p:nvCxnSpPr>
          <p:cNvPr id="2061" name="Straight Arrow Connector 9"/>
          <p:cNvCxnSpPr/>
          <p:nvPr/>
        </p:nvCxnSpPr>
        <p:spPr>
          <a:xfrm>
            <a:off x="4570920" y="5562360"/>
            <a:ext cx="229320" cy="144828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  <p:cxnSp>
        <p:nvCxnSpPr>
          <p:cNvPr id="2062" name="Straight Arrow Connector 13"/>
          <p:cNvCxnSpPr/>
          <p:nvPr/>
        </p:nvCxnSpPr>
        <p:spPr>
          <a:xfrm>
            <a:off x="2970720" y="5715000"/>
            <a:ext cx="610200" cy="1372320"/>
          </a:xfrm>
          <a:prstGeom prst="straightConnector1">
            <a:avLst/>
          </a:prstGeom>
          <a:ln w="38160">
            <a:solidFill>
              <a:srgbClr val="008000"/>
            </a:solidFill>
            <a:prstDash val="lgDash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2000" fill="hold"/>
                                        <p:tgtEl>
                                          <p:spTgt spid="2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0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2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2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5D31C-24B8-4C88-9DCD-1337731BE5D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66" name="Object 6"/>
              <p:cNvSpPr txBox="1"/>
              <p:nvPr/>
            </p:nvSpPr>
            <p:spPr>
              <a:xfrm>
                <a:off x="228600" y="1447920"/>
                <a:ext cx="662940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8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2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5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7" name="Object 5"/>
              <p:cNvSpPr txBox="1"/>
              <p:nvPr/>
            </p:nvSpPr>
            <p:spPr>
              <a:xfrm>
                <a:off x="0" y="2514600"/>
                <a:ext cx="6477120" cy="1154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77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667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32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2469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6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0501</m:t>
                            </m:r>
                            <m:r>
                              <m:t xml:space="preserve">)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68" name="Object 4"/>
              <p:cNvSpPr txBox="1"/>
              <p:nvPr/>
            </p:nvSpPr>
            <p:spPr>
              <a:xfrm>
                <a:off x="533520" y="4267080"/>
                <a:ext cx="421776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06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 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olution (cont.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1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18AD8-BA97-4CEA-A5E6-EEDFDA4662BF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2" name="Rectangle 4"/>
          <p:cNvSpPr/>
          <p:nvPr/>
        </p:nvSpPr>
        <p:spPr>
          <a:xfrm>
            <a:off x="318600" y="1395000"/>
            <a:ext cx="6089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Table 1: Values of Simpson’s 1/3rd Rule for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ahoma"/>
              </a:rPr>
              <a:t>Example 2 with multiple segments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073" name=""/>
          <p:cNvGraphicFramePr/>
          <p:nvPr/>
        </p:nvGraphicFramePr>
        <p:xfrm>
          <a:off x="914400" y="2438280"/>
          <a:ext cx="4572000" cy="5029200"/>
        </p:xfrm>
        <a:graphic>
          <a:graphicData uri="http://schemas.openxmlformats.org/drawingml/2006/table">
            <a:tbl>
              <a:tblPr/>
              <a:tblGrid>
                <a:gridCol w="1149480"/>
                <a:gridCol w="3422520"/>
              </a:tblGrid>
              <a:tr h="1336680"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pproximate Value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c00000"/>
                          </a:solidFill>
                          <a:latin typeface="Tahoma"/>
                          <a:ea typeface="Times New Roman"/>
                        </a:rPr>
                        <a:t>Actual value =11061.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2520"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5.72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6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40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35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061.34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5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6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3ACDA-1A1B-44D9-8360-E234398B96AE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7" name="Rectangle 4"/>
          <p:cNvSpPr/>
          <p:nvPr/>
        </p:nvSpPr>
        <p:spPr>
          <a:xfrm>
            <a:off x="-113400" y="1836720"/>
            <a:ext cx="516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rror in a single application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Rule is given a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78" name="Object 5"/>
              <p:cNvSpPr txBox="1"/>
              <p:nvPr/>
            </p:nvSpPr>
            <p:spPr>
              <a:xfrm>
                <a:off x="762120" y="2895480"/>
                <a:ext cx="54100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ζ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ζ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79" name="Rectangle 7"/>
          <p:cNvSpPr/>
          <p:nvPr/>
        </p:nvSpPr>
        <p:spPr>
          <a:xfrm>
            <a:off x="-143280" y="4116960"/>
            <a:ext cx="624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Multiple Segment Simpson’s 1/3rd Rule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rror is the sum of the errors in ea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0" name="Text Box 8"/>
          <p:cNvSpPr/>
          <p:nvPr/>
        </p:nvSpPr>
        <p:spPr>
          <a:xfrm>
            <a:off x="0" y="4876920"/>
            <a:ext cx="651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of Simpson’s 1/3rd Rule.  The error in n segment Simpson’s 1/3rd Rule is given b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81" name="Object 13"/>
              <p:cNvSpPr txBox="1"/>
              <p:nvPr/>
            </p:nvSpPr>
            <p:spPr>
              <a:xfrm>
                <a:off x="228600" y="5791320"/>
                <a:ext cx="3200400" cy="103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2" name="Object 12"/>
              <p:cNvSpPr txBox="1"/>
              <p:nvPr/>
            </p:nvSpPr>
            <p:spPr>
              <a:xfrm>
                <a:off x="3429000" y="5791320"/>
                <a:ext cx="24382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3" name="Object 11"/>
              <p:cNvSpPr txBox="1"/>
              <p:nvPr/>
            </p:nvSpPr>
            <p:spPr>
              <a:xfrm>
                <a:off x="380880" y="7238880"/>
                <a:ext cx="335304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4" name="Object 10"/>
              <p:cNvSpPr txBox="1"/>
              <p:nvPr/>
            </p:nvSpPr>
            <p:spPr>
              <a:xfrm>
                <a:off x="3886200" y="7238880"/>
                <a:ext cx="236232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5" name="Object 18"/>
              <p:cNvSpPr txBox="1"/>
              <p:nvPr/>
            </p:nvSpPr>
            <p:spPr>
              <a:xfrm>
                <a:off x="4419720" y="6705720"/>
                <a:ext cx="198108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6" name="Object 20"/>
              <p:cNvSpPr txBox="1"/>
              <p:nvPr/>
            </p:nvSpPr>
            <p:spPr>
              <a:xfrm>
                <a:off x="4724280" y="8305920"/>
                <a:ext cx="175284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40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9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DC96E-0F05-4F43-85E2-B2FF7CDDE169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0" name="Object 5"/>
              <p:cNvSpPr txBox="1"/>
              <p:nvPr/>
            </p:nvSpPr>
            <p:spPr>
              <a:xfrm>
                <a:off x="304920" y="1981080"/>
                <a:ext cx="350496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(</m:t>
                            </m:r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  <m:r>
                              <m:t xml:space="preserve">)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1" name="Object 4"/>
              <p:cNvSpPr txBox="1"/>
              <p:nvPr/>
            </p:nvSpPr>
            <p:spPr>
              <a:xfrm>
                <a:off x="3886200" y="1981080"/>
                <a:ext cx="2209680" cy="10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2" name="Object 11"/>
              <p:cNvSpPr txBox="1"/>
              <p:nvPr/>
            </p:nvSpPr>
            <p:spPr>
              <a:xfrm>
                <a:off x="0" y="4038480"/>
                <a:ext cx="327672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4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3" name="Object 10"/>
              <p:cNvSpPr txBox="1"/>
              <p:nvPr/>
            </p:nvSpPr>
            <p:spPr>
              <a:xfrm>
                <a:off x="3505320" y="4038480"/>
                <a:ext cx="23619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4" name="Object 9"/>
              <p:cNvSpPr txBox="1"/>
              <p:nvPr/>
            </p:nvSpPr>
            <p:spPr>
              <a:xfrm>
                <a:off x="4724280" y="7086600"/>
                <a:ext cx="14670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5" name="Object 8"/>
              <p:cNvSpPr txBox="1"/>
              <p:nvPr/>
            </p:nvSpPr>
            <p:spPr>
              <a:xfrm>
                <a:off x="3429000" y="5791320"/>
                <a:ext cx="2057400" cy="125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096" name="Text Box 17"/>
          <p:cNvSpPr/>
          <p:nvPr/>
        </p:nvSpPr>
        <p:spPr>
          <a:xfrm>
            <a:off x="3200400" y="3124080"/>
            <a:ext cx="34308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7" name="Object 18"/>
              <p:cNvSpPr txBox="1"/>
              <p:nvPr/>
            </p:nvSpPr>
            <p:spPr>
              <a:xfrm>
                <a:off x="4572000" y="3149640"/>
                <a:ext cx="19432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8" name="Object 20"/>
              <p:cNvSpPr txBox="1"/>
              <p:nvPr/>
            </p:nvSpPr>
            <p:spPr>
              <a:xfrm>
                <a:off x="4876920" y="5181480"/>
                <a:ext cx="173664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ζ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9" name="Object 22"/>
              <p:cNvSpPr txBox="1"/>
              <p:nvPr/>
            </p:nvSpPr>
            <p:spPr>
              <a:xfrm>
                <a:off x="0" y="5715000"/>
                <a:ext cx="32767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880</m:t>
                        </m:r>
                      </m:den>
                    </m:f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1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2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50932-DF6D-403E-BDDC-E636D31CE327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3" name="Rectangle 4"/>
          <p:cNvSpPr/>
          <p:nvPr/>
        </p:nvSpPr>
        <p:spPr>
          <a:xfrm>
            <a:off x="-156960" y="1989000"/>
            <a:ext cx="6307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nce, the total error in Multiple Seg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rd Rule i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4" name="Object 8"/>
              <p:cNvSpPr txBox="1"/>
              <p:nvPr/>
            </p:nvSpPr>
            <p:spPr>
              <a:xfrm>
                <a:off x="0" y="3200400"/>
                <a:ext cx="175248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5" name="Object 7"/>
              <p:cNvSpPr txBox="1"/>
              <p:nvPr/>
            </p:nvSpPr>
            <p:spPr>
              <a:xfrm>
                <a:off x="1752480" y="3352680"/>
                <a:ext cx="3276720" cy="128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6" name="Object 6"/>
              <p:cNvSpPr txBox="1"/>
              <p:nvPr/>
            </p:nvSpPr>
            <p:spPr>
              <a:xfrm>
                <a:off x="1981080" y="4800600"/>
                <a:ext cx="3276720" cy="130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f>
                          <m:num>
                            <m:r>
                              <m:t xml:space="preserve">n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  <m:e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(</m:t>
                            </m:r>
                            <m:r>
                              <m:t xml:space="preserve">4</m:t>
                            </m:r>
                            <m:r>
                              <m:t xml:space="preserve">)</m:t>
                            </m:r>
                          </m:sup>
                        </m:sSup>
                        <m:r>
                          <m:t xml:space="preserve">(</m:t>
                        </m:r>
                        <m:sSub>
                          <m:e>
                            <m:r>
                              <m:t xml:space="preserve">ζ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07" name="Object 5"/>
              <p:cNvSpPr txBox="1"/>
              <p:nvPr/>
            </p:nvSpPr>
            <p:spPr>
              <a:xfrm>
                <a:off x="1714680" y="6095880"/>
                <a:ext cx="4228920" cy="179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rror in the Multiple Segment Simpson’s 1/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035A6-EB92-4A27-A600-4041B3531952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1" name="Rectangle 4"/>
          <p:cNvSpPr/>
          <p:nvPr/>
        </p:nvSpPr>
        <p:spPr>
          <a:xfrm>
            <a:off x="284760" y="2095920"/>
            <a:ext cx="15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er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2" name="Object 5"/>
              <p:cNvSpPr txBox="1"/>
              <p:nvPr/>
            </p:nvSpPr>
            <p:spPr>
              <a:xfrm>
                <a:off x="1981080" y="1752480"/>
                <a:ext cx="213372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13" name="Rectangle 7"/>
          <p:cNvSpPr/>
          <p:nvPr/>
        </p:nvSpPr>
        <p:spPr>
          <a:xfrm>
            <a:off x="103320" y="3696120"/>
            <a:ext cx="528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n approximate average value of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4" name="Object 8"/>
              <p:cNvSpPr txBox="1"/>
              <p:nvPr/>
            </p:nvSpPr>
            <p:spPr>
              <a:xfrm>
                <a:off x="2228760" y="4572000"/>
                <a:ext cx="264816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a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15" name="Object 11"/>
              <p:cNvSpPr txBox="1"/>
              <p:nvPr/>
            </p:nvSpPr>
            <p:spPr>
              <a:xfrm>
                <a:off x="1981080" y="5410080"/>
                <a:ext cx="2951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0</m:t>
                        </m:r>
                        <m:sSup>
                          <m:e>
                            <m:r>
                              <m:t xml:space="preserve">n</m:t>
                            </m:r>
                          </m:e>
                          <m:sup>
                            <m:r>
                              <m:t xml:space="preserve">4</m:t>
                            </m:r>
                          </m:sup>
                        </m:sSup>
                      </m:den>
                    </m:f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116" name="Rectangle 13"/>
          <p:cNvSpPr/>
          <p:nvPr/>
        </p:nvSpPr>
        <p:spPr>
          <a:xfrm>
            <a:off x="711720" y="744084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17" name="Object 14"/>
              <p:cNvSpPr txBox="1"/>
              <p:nvPr/>
            </p:nvSpPr>
            <p:spPr>
              <a:xfrm>
                <a:off x="2209680" y="6629400"/>
                <a:ext cx="3581640" cy="17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f</m:t>
                            </m:r>
                          </m:e>
                        </m:bar>
                      </m:e>
                      <m:sup>
                        <m:r>
                          <m:t xml:space="preserve">(</m:t>
                        </m:r>
                        <m:r>
                          <m:t xml:space="preserve">4</m:t>
                        </m:r>
                        <m:r>
                          <m:t xml:space="preserve">)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f>
                              <m:num>
                                <m:r>
                                  <m:t xml:space="preserve">n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(</m:t>
                                </m:r>
                                <m:r>
                                  <m:t xml:space="preserve">4</m:t>
                                </m:r>
                                <m:r>
                                  <m:t xml:space="preserve">)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ζ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nary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dditional Resou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9" name=""/>
          <p:cNvSpPr txBox="1"/>
          <p:nvPr/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resources on this topic such as digital audiovisual lectures, primers, textbook chapters, multiple-choice tests, worksheets in MATLAB, MATHEMATICA, MathCad and MAPLE, blogs, related physical problems, please vis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numericalmethods.eng.usf.edu/topics/simpsons_13rd_rule.htm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5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02443-3A9F-44D7-A7CF-F41DF8681D0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6" name="Rectangle 4"/>
          <p:cNvSpPr/>
          <p:nvPr/>
        </p:nvSpPr>
        <p:spPr>
          <a:xfrm>
            <a:off x="571680" y="3454560"/>
            <a:ext cx="5829120" cy="17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Simpson’s 1/3</a:t>
            </a:r>
            <a:r>
              <a:rPr b="0" lang="en-US" sz="4400" spc="-1" strike="noStrike" baseline="30000">
                <a:solidFill>
                  <a:srgbClr val="1f497d"/>
                </a:solidFill>
                <a:latin typeface="Tahoma"/>
              </a:rPr>
              <a:t>rd</a:t>
            </a:r>
            <a:r>
              <a:rPr b="0" lang="en-US" sz="4400" spc="-1" strike="noStrike">
                <a:solidFill>
                  <a:srgbClr val="1f497d"/>
                </a:solidFill>
                <a:latin typeface="Tahoma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"/>
          <p:cNvSpPr txBox="1"/>
          <p:nvPr/>
        </p:nvSpPr>
        <p:spPr>
          <a:xfrm>
            <a:off x="342720" y="4266720"/>
            <a:ext cx="6172200" cy="10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THE EN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6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Verdana"/>
                <a:hlinkClick r:id="rId1"/>
              </a:rPr>
              <a:t>http://numericalmethods.eng.usf.edu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0" y="22093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rapezoidal rule was based on approximating the integrand by a first order polynomial, and then integrating the polynomial in the interval of integration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9" name="Footer Placeholder 6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0" name="Slide Number Placeholder 7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DAD79-CE50-4A98-909C-AEF825D6F2A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1" name="Rectangle 20"/>
          <p:cNvSpPr/>
          <p:nvPr/>
        </p:nvSpPr>
        <p:spPr>
          <a:xfrm>
            <a:off x="722520" y="4939200"/>
            <a:ext cx="8953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enc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2" name="Object 21"/>
              <p:cNvSpPr txBox="1"/>
              <p:nvPr/>
            </p:nvSpPr>
            <p:spPr>
              <a:xfrm>
                <a:off x="1943280" y="5283360"/>
                <a:ext cx="400032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≈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1883" name="Group 30"/>
          <p:cNvGrpSpPr/>
          <p:nvPr/>
        </p:nvGrpSpPr>
        <p:grpSpPr>
          <a:xfrm>
            <a:off x="1066680" y="6629400"/>
            <a:ext cx="4172040" cy="749160"/>
            <a:chOff x="1066680" y="6629400"/>
            <a:chExt cx="4172040" cy="749160"/>
          </a:xfrm>
        </p:grpSpPr>
        <p:sp>
          <p:nvSpPr>
            <p:cNvPr id="1884" name="Text Box 23"/>
            <p:cNvSpPr/>
            <p:nvPr/>
          </p:nvSpPr>
          <p:spPr>
            <a:xfrm>
              <a:off x="1066680" y="6705720"/>
              <a:ext cx="4172040" cy="67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88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000000"/>
                  </a:solidFill>
                  <a:latin typeface="Tahoma"/>
                </a:rPr>
                <a:t>Where                 is a second order polynomial. </a:t>
              </a:r>
              <a:endParaRPr b="0" lang="en-US" sz="1900" spc="-1" strike="noStrike">
                <a:solidFill>
                  <a:srgbClr val="000000"/>
                </a:solidFill>
                <a:latin typeface="Tahoma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85" name="Object 26"/>
                <p:cNvSpPr txBox="1"/>
                <p:nvPr/>
              </p:nvSpPr>
              <p:spPr>
                <a:xfrm>
                  <a:off x="2057040" y="6629400"/>
                  <a:ext cx="838080" cy="495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(</m:t>
                      </m:r>
                      <m:r>
                        <m:t xml:space="preserve">x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886" name="Object 28"/>
              <p:cNvSpPr txBox="1"/>
              <p:nvPr/>
            </p:nvSpPr>
            <p:spPr>
              <a:xfrm>
                <a:off x="2057400" y="7721640"/>
                <a:ext cx="2895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87" name="Rectangle 11"/>
          <p:cNvSpPr/>
          <p:nvPr/>
        </p:nvSpPr>
        <p:spPr>
          <a:xfrm>
            <a:off x="228600" y="37339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son’s 1/3rd rule is an extension of Trapezoidal rule where the integrand is approximated by a second order polynomial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58453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9" name="Footer Placeholder 6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0" name="Slide Number Placeholder 7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5A83D-3C93-4EE5-A0B5-B8103B9DD110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1" name="Object 37"/>
              <p:cNvSpPr txBox="1"/>
              <p:nvPr/>
            </p:nvSpPr>
            <p:spPr>
              <a:xfrm>
                <a:off x="838080" y="2514600"/>
                <a:ext cx="1219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2" name="Object 36"/>
              <p:cNvSpPr txBox="1"/>
              <p:nvPr/>
            </p:nvSpPr>
            <p:spPr>
              <a:xfrm>
                <a:off x="2209680" y="2362320"/>
                <a:ext cx="205740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,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</m:d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3" name="Object 35"/>
              <p:cNvSpPr txBox="1"/>
              <p:nvPr/>
            </p:nvSpPr>
            <p:spPr>
              <a:xfrm>
                <a:off x="4419720" y="2438280"/>
                <a:ext cx="16761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94" name="Rectangle 43"/>
          <p:cNvSpPr/>
          <p:nvPr/>
        </p:nvSpPr>
        <p:spPr>
          <a:xfrm>
            <a:off x="380880" y="1501200"/>
            <a:ext cx="62485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three points of the function to evaluate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95" name="Object 46"/>
              <p:cNvSpPr txBox="1"/>
              <p:nvPr/>
            </p:nvSpPr>
            <p:spPr>
              <a:xfrm>
                <a:off x="914400" y="4800600"/>
                <a:ext cx="41911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a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6" name="Object 45"/>
              <p:cNvSpPr txBox="1"/>
              <p:nvPr/>
            </p:nvSpPr>
            <p:spPr>
              <a:xfrm>
                <a:off x="380880" y="5562720"/>
                <a:ext cx="5867640" cy="113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t xml:space="preserve">b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97" name="Object 44"/>
              <p:cNvSpPr txBox="1"/>
              <p:nvPr/>
            </p:nvSpPr>
            <p:spPr>
              <a:xfrm>
                <a:off x="838080" y="6858000"/>
                <a:ext cx="39625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b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b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898" name="Rectangle 13"/>
          <p:cNvSpPr/>
          <p:nvPr/>
        </p:nvSpPr>
        <p:spPr>
          <a:xfrm>
            <a:off x="581760" y="3505320"/>
            <a:ext cx="1355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ft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9" name="Rectangle 14"/>
          <p:cNvSpPr/>
          <p:nvPr/>
        </p:nvSpPr>
        <p:spPr>
          <a:xfrm>
            <a:off x="4077720" y="3429000"/>
            <a:ext cx="1563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ght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0" name="Rectangle 15"/>
          <p:cNvSpPr/>
          <p:nvPr/>
        </p:nvSpPr>
        <p:spPr>
          <a:xfrm>
            <a:off x="2314080" y="3505320"/>
            <a:ext cx="116208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1901" name="Straight Arrow Connector 17"/>
          <p:cNvCxnSpPr/>
          <p:nvPr/>
        </p:nvCxnSpPr>
        <p:spPr>
          <a:xfrm flipH="1">
            <a:off x="1294560" y="3047760"/>
            <a:ext cx="2520" cy="205776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  <p:cxnSp>
        <p:nvCxnSpPr>
          <p:cNvPr id="1902" name="Straight Arrow Connector 19"/>
          <p:cNvCxnSpPr/>
          <p:nvPr/>
        </p:nvCxnSpPr>
        <p:spPr>
          <a:xfrm flipH="1">
            <a:off x="4952160" y="2971440"/>
            <a:ext cx="2520" cy="426780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  <p:cxnSp>
        <p:nvCxnSpPr>
          <p:cNvPr id="1903" name="Straight Arrow Connector 20"/>
          <p:cNvCxnSpPr/>
          <p:nvPr/>
        </p:nvCxnSpPr>
        <p:spPr>
          <a:xfrm flipH="1">
            <a:off x="2894760" y="3048120"/>
            <a:ext cx="2520" cy="3048480"/>
          </a:xfrm>
          <a:prstGeom prst="straightConnector1">
            <a:avLst/>
          </a:prstGeom>
          <a:ln w="38160">
            <a:solidFill>
              <a:srgbClr val="ff0000"/>
            </a:solidFill>
            <a:prstDash val="lgDash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6" name="Slide Number Placeholder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7978C-BFC1-43EC-A89B-5F73C31444FB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7" name="Rectangle 14"/>
          <p:cNvSpPr/>
          <p:nvPr/>
        </p:nvSpPr>
        <p:spPr>
          <a:xfrm>
            <a:off x="-121680" y="1752480"/>
            <a:ext cx="68554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lving the previous equations for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nd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8" name="Object 17"/>
              <p:cNvSpPr txBox="1"/>
              <p:nvPr/>
            </p:nvSpPr>
            <p:spPr>
              <a:xfrm>
                <a:off x="0" y="2743200"/>
                <a:ext cx="6858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ab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09" name="Object 16"/>
              <p:cNvSpPr txBox="1"/>
              <p:nvPr/>
            </p:nvSpPr>
            <p:spPr>
              <a:xfrm>
                <a:off x="0" y="4876920"/>
                <a:ext cx="685800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a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b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0" name="Object 15"/>
              <p:cNvSpPr txBox="1"/>
              <p:nvPr/>
            </p:nvSpPr>
            <p:spPr>
              <a:xfrm>
                <a:off x="0" y="6781680"/>
                <a:ext cx="6629400" cy="158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num>
                      <m:den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  <m:r>
                          <m:t xml:space="preserve">+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911" name="TextBox 8"/>
          <p:cNvSpPr/>
          <p:nvPr/>
        </p:nvSpPr>
        <p:spPr>
          <a:xfrm rot="20012400">
            <a:off x="423360" y="4479840"/>
            <a:ext cx="5824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969696"/>
                </a:solidFill>
                <a:latin typeface="Tahoma"/>
              </a:rPr>
              <a:t>Do NOT write</a:t>
            </a:r>
            <a:endParaRPr b="0" lang="en-US" sz="6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88" dur="1000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1000"/>
                                        <p:tgtEl>
                                          <p:spTgt spid="1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3" name="Footer Placeholder 3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4" name="Slide Number Placeholder 4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4ECC-3D66-4CAE-B5AF-A88E528E1153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15" name="Text Box 100"/>
          <p:cNvSpPr/>
          <p:nvPr/>
        </p:nvSpPr>
        <p:spPr>
          <a:xfrm>
            <a:off x="533520" y="1676520"/>
            <a:ext cx="97128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Then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916" name="Group 109"/>
          <p:cNvGrpSpPr/>
          <p:nvPr/>
        </p:nvGrpSpPr>
        <p:grpSpPr>
          <a:xfrm>
            <a:off x="304920" y="2209680"/>
            <a:ext cx="5028480" cy="2742480"/>
            <a:chOff x="304920" y="2209680"/>
            <a:chExt cx="5028480" cy="2742480"/>
          </a:xfrm>
        </p:grpSpPr>
        <mc:AlternateContent>
          <mc:Choice xmlns:a14="http://schemas.microsoft.com/office/drawing/2010/main" Requires="a14">
            <p:sp>
              <p:nvSpPr>
                <p:cNvPr id="1917" name="Object 104"/>
                <p:cNvSpPr txBox="1"/>
                <p:nvPr/>
              </p:nvSpPr>
              <p:spPr>
                <a:xfrm>
                  <a:off x="304920" y="2209680"/>
                  <a:ext cx="2852640" cy="139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I</m:t>
                      </m:r>
                      <m:r>
                        <m:t xml:space="preserve">≈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sSub>
                            <m:e>
                              <m:r>
                                <m:t xml:space="preserve">f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(</m:t>
                          </m:r>
                          <m:r>
                            <m:t xml:space="preserve">x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918" name="Object 103"/>
                <p:cNvSpPr txBox="1"/>
                <p:nvPr/>
              </p:nvSpPr>
              <p:spPr>
                <a:xfrm>
                  <a:off x="691560" y="3555720"/>
                  <a:ext cx="4641840" cy="139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nary>
                        <m:naryPr>
                          <m:chr m:val="∫"/>
                        </m:naryPr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b</m:t>
                          </m:r>
                        </m: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x</m:t>
                              </m:r>
                              <m:r>
                                <m:t xml:space="preserve">+</m:t>
                              </m:r>
                              <m:sSub>
                                <m:e>
                                  <m:r>
                                    <m:t xml:space="preserve">a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x</m:t>
                                  </m:r>
                                </m:e>
                                <m:sup>
                                  <m:r>
                                    <m:t xml:space="preserve">2</m:t>
                                  </m:r>
                                </m:sup>
                              </m:sSup>
                            </m:e>
                          </m:d>
                          <m:r>
                            <m:rPr>
                              <m:lit/>
                              <m:nor/>
                            </m:rPr>
                            <m:t xml:space="preserve">dx</m:t>
                          </m:r>
                        </m:e>
                      </m:nary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919" name="Object 102"/>
              <p:cNvSpPr txBox="1"/>
              <p:nvPr/>
            </p:nvSpPr>
            <p:spPr>
              <a:xfrm>
                <a:off x="457200" y="5105520"/>
                <a:ext cx="44560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f>
                              <m:num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0" name="Object 101"/>
              <p:cNvSpPr txBox="1"/>
              <p:nvPr/>
            </p:nvSpPr>
            <p:spPr>
              <a:xfrm>
                <a:off x="533520" y="6858000"/>
                <a:ext cx="600552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f>
                      <m:num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863640" y="823680"/>
            <a:ext cx="584496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2" name="Footer Placeholder 5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3" name="Slide Number Placeholder 6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B65E-2F8B-4AC6-A400-D711CD68EB88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4" name="Rectangle 25"/>
          <p:cNvSpPr/>
          <p:nvPr/>
        </p:nvSpPr>
        <p:spPr>
          <a:xfrm>
            <a:off x="609480" y="2418840"/>
            <a:ext cx="4743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Substituting values of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en-US" sz="1900" spc="-1" strike="noStrike" baseline="-25000">
                <a:solidFill>
                  <a:srgbClr val="000000"/>
                </a:solidFill>
                <a:latin typeface="Tahoma"/>
              </a:rPr>
              <a:t> 2 </a:t>
            </a: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give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5" name="Object 26"/>
              <p:cNvSpPr txBox="1"/>
              <p:nvPr/>
            </p:nvSpPr>
            <p:spPr>
              <a:xfrm>
                <a:off x="838080" y="2895480"/>
                <a:ext cx="5222880" cy="243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a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b</m:t>
                                    </m:r>
                                  </m:num>
                                  <m:den>
                                    <m:r>
                                      <m:t xml:space="preserve">2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6" name="Text Box 28"/>
          <p:cNvSpPr/>
          <p:nvPr/>
        </p:nvSpPr>
        <p:spPr>
          <a:xfrm>
            <a:off x="304920" y="533412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ce for Simpson’s 1/3rd Rule, the interval [a, b] is broken into 2 segments, the segment 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7" name="Object 30"/>
              <p:cNvSpPr txBox="1"/>
              <p:nvPr/>
            </p:nvSpPr>
            <p:spPr>
              <a:xfrm>
                <a:off x="1523880" y="6400800"/>
                <a:ext cx="3124440" cy="19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s of Simpson’s 1/3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alibri"/>
              </a:rPr>
              <a:t>rd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R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9" name="Footer Placeholder 4"/>
          <p:cNvSpPr/>
          <p:nvPr/>
        </p:nvSpPr>
        <p:spPr>
          <a:xfrm>
            <a:off x="2343240" y="8475840"/>
            <a:ext cx="217152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                                           </a:t>
            </a:r>
            <a:r>
              <a:rPr b="0" lang="en-US" sz="1200" spc="-1" strike="noStrike">
                <a:solidFill>
                  <a:srgbClr val="898989"/>
                </a:solidFill>
                <a:latin typeface="Tahoma"/>
              </a:rPr>
              <a:t>http://numericalmethods.eng.usf.edu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0" name="Slide Number Placeholder 5"/>
          <p:cNvSpPr/>
          <p:nvPr/>
        </p:nvSpPr>
        <p:spPr>
          <a:xfrm>
            <a:off x="4915080" y="8475840"/>
            <a:ext cx="1600200" cy="4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FD42-25E1-4CCE-A199-89417A553946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1" name="Text Box 90"/>
          <p:cNvSpPr/>
          <p:nvPr/>
        </p:nvSpPr>
        <p:spPr>
          <a:xfrm>
            <a:off x="609480" y="2590920"/>
            <a:ext cx="14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32" name="Object 88"/>
              <p:cNvSpPr txBox="1"/>
              <p:nvPr/>
            </p:nvSpPr>
            <p:spPr>
              <a:xfrm>
                <a:off x="380880" y="3581280"/>
                <a:ext cx="58676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b</m:t>
                        </m:r>
                      </m:sup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f>
                      <m:num>
                        <m:r>
                          <m:t xml:space="preserve">h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4</m:t>
                        </m:r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a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b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16:33:10Z</dcterms:created>
  <dc:creator>Autar Kaw, Charlie Barker</dc:creator>
  <dc:description>A power point presentation describing Simpson's 1/3rd Rule</dc:description>
  <cp:keywords>Power Point Simpson's 1/3rd Rule</cp:keywords>
  <dc:language>en-US</dc:language>
  <cp:lastModifiedBy>sraja</cp:lastModifiedBy>
  <cp:lastPrinted>1999-03-26T19:03:37Z</cp:lastPrinted>
  <dcterms:modified xsi:type="dcterms:W3CDTF">2011-03-25T13:45:34Z</dcterms:modified>
  <cp:revision>157</cp:revision>
  <dc:subject>Integraion</dc:subject>
  <dc:title>Simpson's 1/3rd Rule</dc:title>
</cp:coreProperties>
</file>